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8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F13-2E82-4E90-BD27-DF432087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4BC-88ED-49AA-AB6E-67284F95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E6677-AD24-4B13-A341-A45013C5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84E5C-E332-49B4-A68B-C457F63A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501E6-43A1-437E-B6A7-614132F1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C7A64-1551-4B37-A232-A71632D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C8C27-4629-4C44-9272-BF5DE36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7AF32-F207-4BD4-A61D-05EB7AB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F5A4D-2AB0-4D77-8752-34FB2102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D5896-FC3E-4518-8699-13CF7283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45B67-4C80-48AB-9F79-EB18C0F0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AC7F1-FDAE-4C97-A693-785C4E8F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9E7-9F4B-43AA-888D-716A3BB5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DF095-1369-44E9-8AA3-795F0525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17CD6-3C66-4F2A-BEDF-5C71902D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B6ACF-B88A-4104-B741-88A648B3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87E6F-7BB5-44D9-ADE2-17527448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CE73B-131B-4604-9EA7-1FBB1B6D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92986-54F2-4BF1-AC6E-BEBABB02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C2F95-E998-419D-82F9-216E96E7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13AAB-A35A-4393-A8F1-44E0055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905A8-CD2A-4CB7-BF2D-21A99419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BF884-3F67-47CE-8CF1-146301F2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41B-43E9-47D4-8CA1-F5504265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2A740-0C02-4193-B9B1-1E1BAA21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E085E-61B9-44A0-8784-EE736D3B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70B30-156C-42BD-B051-796E8298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EC615-C2C7-4391-9CA1-6D141A1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2C83B-27AC-49BF-95AC-C48E9C8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38684-C774-49B4-8D14-5244B61A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04890-1999-495E-9D50-57046FE1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4DC9E-171A-4753-96E1-BFBC0C01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46F4A-4996-45AD-9476-B0B80D60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2545C-2AD8-4182-8333-4BC9D8F8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6F1B-F283-44CA-9B5C-8BAC6128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69D0C-366F-4780-A107-343FF0A2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581E5-8BB1-4EE6-9DDE-8F628A20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5FE4-1B24-4BCC-8176-2EA46B99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268B6-D284-4312-9ACE-777FE7CD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0C76D-5ECF-4170-BA98-143CA6AA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0D9BC-D621-492F-BA64-63D3ABB6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66848-FB59-4680-801A-8F2DB3AB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5714B-7118-40E6-89E1-189FC59A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D98C4-59AC-4365-9E6C-495782C1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2C2B1-A787-444D-9D41-E84530F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65F8-466D-481F-8AEB-21F73D1D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1CD4B-D111-4A1B-BB63-6EB399A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25074-AB38-43C7-B1F2-7D68AB47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87B30-0954-42EA-AE90-ACD2DDAD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8A26A-E130-43D3-9909-201A16CF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6D9C3-85CE-4D97-AA54-917F7451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49C2E-1DED-470B-910D-A16FB1ED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8964A-2F02-4C03-A701-6AF8B751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7005D-9078-4A2B-A17A-4456A232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72DA2-55C5-44CA-AC6A-61E69608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89182-138D-4D65-A99B-C05C4876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B92A-3A59-4342-AA24-91733E9A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03F7A-16BD-41AC-B44D-68A4E77F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2B513-E968-49CE-96F4-0CC2FA8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6153F-B06E-4D7C-8B36-10D30ED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EAC2E-F1BF-4547-9EA5-A385CFF5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C7C00-92A2-4F69-BAE8-8F2FDF4E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2D6C7-F4D0-4FB0-947E-6350DB82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6F2F3-F06E-421A-B212-4FA4A2E9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37D2D-EA23-4751-9603-284C858C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02F81-2130-4F1C-8DFF-3D0D4F27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2D6D5-B80D-4B3B-B121-755BF580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1F2D-6FFD-400D-988E-9879B2C8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01B41-56FC-4EB3-8902-EF07C5D7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68E85-7394-4A71-B741-72F38165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D91F3-CDA9-4CB3-A10D-93F649CC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9707E-214D-4C0B-B53E-0FFF7271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C3BD5-A1A3-4652-A075-3F509098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32ED9-6474-4A40-A647-554D555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1E1CD-AAD9-4A09-B796-EDE6888F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CBC1A-DAB7-4657-82CB-8BA5982F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E3B6A-EF61-4FDE-8930-D41D364E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67C2CA-A916-4160-A845-E821E28C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C17A-EFCA-46BC-B014-A05A86B7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35215-ADA6-47DB-85A7-DF5AA98B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447B9-5531-4417-84DA-62468904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BB33B-F250-4AC4-9AEF-1F7664DC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E782B-1280-4BBB-9575-BE15B710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4F34C-A702-46BB-A3A1-6A320CFE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6E6C4-D733-485D-AF51-B4C144A0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6BD01-7788-4882-8A9E-38EDEF61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5B3FF-37B0-4044-8F73-6557FF4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690CD-74AB-418E-90DD-9D3A20D6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7BDDF-C366-4D58-8F39-83592CB6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B37F-CB72-450F-B41E-F6B4B9B7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9514C-96B0-4F2A-AC30-976A07FE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1AC0-0011-4BC2-98E2-8BFD328D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08C-5187-4E75-A6C4-CBA41C39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5979-C73D-4404-8B21-2E6D919C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62DE-FD88-4985-8373-0B5127D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E304-225D-4506-9967-6C2729B1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77B3-FA33-4031-A4B3-4DDF4F60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8E18-1DBF-4AFA-B771-9AB1486A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716E-540D-4CB2-88E5-BB5192EC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91E3-6A76-4D4E-A110-D980862E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4141-7988-4C4C-BA16-0E28170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91E9-9045-4CEF-A0E7-468E9FEE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A2C6-91E4-4255-80C7-D339B94C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F08-8645-4349-808E-81FA9BFE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FF3B-3842-4BC8-A52C-3860F487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02C2-F2E1-4876-979D-314A93C1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173D-4DFE-4646-B1B1-EC651D00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4AEE-9F8C-4D22-A5B3-4C0F1C94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F351-4A76-4397-9B23-1B39A592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4B844-6852-4C50-956D-40A17641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EC84-C9E9-49D2-A92F-8AC9DAF3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E3B20-46B8-49D9-A4C5-E62FD8D2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41916-DA4F-401B-BA7D-84AAF6B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CB32C-E6E1-47A5-9406-D54D9E61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022-F8AF-45EF-9C64-5FD9E7A8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2826-F038-4469-B776-3A066142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F237-D0C7-4926-A123-60B929EB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1A153-40F3-4903-A48B-5E1FA788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688E-6040-434A-A2CC-F05418B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4052-8E72-431C-B668-8BF0E4ED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8635-CF3E-4956-A29F-ABEF771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4BE9-36A0-4162-8C08-521CE228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0462C-ACD6-4C0A-9F75-9D0B79E8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722E-8D02-488C-813F-3BA2EA9B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6816-D88A-4058-AEAC-0F66D18E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15F-E1C3-4CF8-80EB-D161AF29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C1DD0-CB75-42FF-A31F-F488EE9D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6636-8F9D-4FCE-8B40-72CA97FF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416C-60AD-4F1F-A256-B25A5873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27DCE-99DE-419A-B90E-83CFCD9D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F75D-B2B4-4FD3-A010-5CF2D7CF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F63C3-A8BD-406B-9E8A-861DC2F3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0C80C-2391-4819-B3F9-08AF384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78F34-00BD-4039-99EB-ED83371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110F9-B10C-4E7A-A610-830EF007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19F08-4B71-4053-962B-9FBF0D59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E9E-C5FC-4F54-A124-BB600039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79DB4-3018-4FED-A347-0C2EBFBE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4530D-E2B3-4DA7-9E5C-98E4D020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88FB-6F3B-460E-B376-C57D147D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BE209-D51B-40CA-A96E-5EA9786A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18A34-8DAA-493C-BCAD-30CC7076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AA855-BF1A-4A89-BACE-ACA4E60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1DFCD-B377-4284-8F96-8C2959E4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151BD-B3EB-4AF6-AE8D-BBA6E0A2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2CD0C-7AC2-4BED-98EF-B43E37D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57CDF-D2D6-46A0-8933-26FD8E7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F60-725F-4A15-B324-99514664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F97C-3667-4F61-BAD5-E8074045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0B03-B4EB-4D2A-AA63-C15F689E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A7537-63A3-4B3C-88D9-E4C13F20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A2116-A013-4E61-92E4-D30E4883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928A0-253B-4896-B37C-33E077AD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E403A-458C-46F1-B652-474F869E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1DBA4-0F9F-4493-B48C-A679E92C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3B76E-BE14-4A85-9E2E-AB23D06E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8B29E-E221-4288-9C61-206F297C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30D4E-D67E-444F-8403-709D39E8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1C4-B23E-4CE8-8C4F-89F4D78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3461F-D01A-4E58-BDA5-FA0C71B5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7F42E-13A4-40CD-BAB5-6DDBBF82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A80D4-AAC0-4369-9A98-20BFC9B1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065A7-9667-4C1E-B94B-A9A316A8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A8819-43AB-4EA3-9A7A-F6260E18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7C8BA-6F82-438A-BA61-25A7851B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D44E6-5DE3-4F7D-96E1-9493C520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E18E2-5C43-4493-9BB3-92B2D5AC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EBD2C-903F-4375-993A-C8477CE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E393E-33CC-4C18-8B21-E8EC2813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C52-5AFB-4C2D-85AB-3986B211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44CB3-5BA3-4216-BF08-8B1274A3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AD921-D3B7-47D1-9FBF-DAFBEC64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1A3C-4339-447A-B0B4-F07FC26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09DD4-F200-46AF-B575-55B6EE9D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8DBD-0EFB-4B8A-A41E-F1F240A3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C2500-DB7D-4879-8DF6-667B65E1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07A8-0765-41AA-A90C-52795509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DCD38-C709-428E-AF0B-5C6847A5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EAE37-C43A-4D34-B3F2-315AD55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B0B6A-3299-4934-B511-989240C0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384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7440" y="429696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8280" y="399996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6120" y="374112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5320" y="342468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6400" y="317052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4120" y="262728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840" y="236916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3640" y="181692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2080" y="428184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71A7-6C27-48E8-B9DB-8EF383D6B3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CDB7-1693-4DC0-9FF5-06FED72368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E008-0426-4692-8E06-BAF71149AC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D639-2C5D-47A9-B7EF-7AAC44550D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D89A-0D9A-40D3-B5AB-8C4FA646E2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FF00-11BC-42C7-9B13-EBEC191F23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E473-3F90-4C99-A7EE-8FD0B262B3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400" y="4522320"/>
                            <a:ext cx="255600" cy="4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3680" y="43333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4520" y="40363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2360" y="37774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3360" y="346140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2640" y="32068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0360" y="26636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080" y="240552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9880" y="18532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60160"/>
                  <a:ext cx="31464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7560"/>
                  <a:ext cx="25488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3600" y="2246400"/>
                  <a:ext cx="182520" cy="17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680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C7F9-4DE2-4140-92CC-F057EBA617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6B99-2202-49AE-B3BF-5D724D8348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AF8B-CD0E-4CB0-AE9E-1C4B97F0C2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4B11-A872-4DB3-B2DE-460004955A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AB34-AFBC-406A-AFAF-28E170C6D3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C4AF-58AC-4025-AFE4-7AF32D9D22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FE8C-F528-4E52-BF28-940BD2337D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B6FB-EDBE-4B42-98A7-1761A4C377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7e7dd"/>
                </a:solidFill>
                <a:latin typeface="Arial"/>
              </a:rPr>
              <a:t>Make More Miles with Your Mixers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3b34"/>
                </a:solidFill>
                <a:latin typeface="Verdana"/>
              </a:rPr>
              <a:t>Brian Justin, WA1Z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a3b34"/>
                </a:solidFill>
                <a:latin typeface="Verdana"/>
              </a:rPr>
              <a:t>f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b34"/>
                </a:solidFill>
                <a:latin typeface="Verdana"/>
              </a:rPr>
              <a:t>Microwave Update 20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Hugh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6483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 mode for mix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ris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 resistor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resistance is non-linea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 bias c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for mix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of motor driven potentiome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al is current flowing in pot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LO drive is “spinning the knob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e: The LO modulates the RF/I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LO Drive Pow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ey to a good mixer is LO dr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 to be able to pump or swing the diode across its full V-I cur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Rectangle 10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9" name="Object 12"/>
          <p:cNvGraphicFramePr/>
          <p:nvPr/>
        </p:nvGraphicFramePr>
        <p:xfrm>
          <a:off x="3048120" y="4495680"/>
          <a:ext cx="26953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495680"/>
                    <a:ext cx="26953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etting LO Drive to the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LO power is “cheap”, just run it up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B6NT PCB for &gt;10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543040" y="3809880"/>
            <a:ext cx="3333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imple Mix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05" name="Object 5"/>
          <p:cNvGraphicFramePr/>
          <p:nvPr/>
        </p:nvGraphicFramePr>
        <p:xfrm>
          <a:off x="990720" y="2362320"/>
          <a:ext cx="73152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3152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dding DC bias to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08" name="Object 15"/>
          <p:cNvGraphicFramePr/>
          <p:nvPr/>
        </p:nvGraphicFramePr>
        <p:xfrm>
          <a:off x="838080" y="1066680"/>
          <a:ext cx="75438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5438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’ve also just create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80880" y="4495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imple mix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t consider DC conditions of the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RF impedances must be matched for best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12" name="Object 6"/>
          <p:cNvGraphicFramePr/>
          <p:nvPr/>
        </p:nvGraphicFramePr>
        <p:xfrm>
          <a:off x="762120" y="1384200"/>
          <a:ext cx="716256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84200"/>
                    <a:ext cx="71625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hat does DC bias “buy us”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provides us a chance to select the operating point of a given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 bias reduces need for large LO sig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low LO drive (even with bias) makes conversion loss higher than with high LO dri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ter than nothing thoug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ulation can show us that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6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9632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ircuit Simulation~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946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9632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-152280" y="-152280"/>
            <a:ext cx="5410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ircuit Simulation~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s talk will cov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sics of diode-based mm-wave mix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of the basic diode as a non-linear de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stor mode of diode ope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 circuit top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ingle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21" name="Object 4"/>
          <p:cNvGraphicFramePr/>
          <p:nvPr/>
        </p:nvGraphicFramePr>
        <p:xfrm>
          <a:off x="985680" y="1600200"/>
          <a:ext cx="717264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600200"/>
                    <a:ext cx="71726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for general purpose mixer/mul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broadb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conversion loss (30</a:t>
            </a:r>
            <a:r>
              <a:rPr b="0" lang="en-US" sz="2400" spc="-1" strike="noStrike" baseline="5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B)…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&gt;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eries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25" name="Object 4"/>
          <p:cNvGraphicFramePr/>
          <p:nvPr/>
        </p:nvGraphicFramePr>
        <p:xfrm>
          <a:off x="914400" y="1371600"/>
          <a:ext cx="72374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237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ilar case as with single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take more drive 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st for higher power TX mixe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used within the following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ti-parallel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called back-to-back p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cellent for power tripler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C bias prot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poor as mixe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0" name="Object 5"/>
          <p:cNvGraphicFramePr/>
          <p:nvPr/>
        </p:nvGraphicFramePr>
        <p:xfrm>
          <a:off x="457200" y="1606680"/>
          <a:ext cx="822960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6680"/>
                    <a:ext cx="822960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ti-series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3520" y="3885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for x3 harmonic mix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icult to implement balun for LO dr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4" name="Object 5"/>
          <p:cNvGraphicFramePr/>
          <p:nvPr/>
        </p:nvGraphicFramePr>
        <p:xfrm>
          <a:off x="457200" y="1657440"/>
          <a:ext cx="8229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7440"/>
                    <a:ext cx="8229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Example of WG balun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37" name="Picture 2" descr="F:\Brian\W0EOM Mixers\1.bmp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39" name="Object 7"/>
          <p:cNvGraphicFramePr/>
          <p:nvPr/>
        </p:nvGraphicFramePr>
        <p:xfrm>
          <a:off x="5181480" y="1523880"/>
          <a:ext cx="882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523880"/>
                    <a:ext cx="882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ed non-linear behavior of dio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w how drive power &amp; bias are import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ed common top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42" name="Object 8"/>
          <p:cNvGraphicFramePr/>
          <p:nvPr/>
        </p:nvGraphicFramePr>
        <p:xfrm>
          <a:off x="7238880" y="1371600"/>
          <a:ext cx="93996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371600"/>
                    <a:ext cx="9399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10"/>
          <p:cNvGraphicFramePr/>
          <p:nvPr/>
        </p:nvGraphicFramePr>
        <p:xfrm>
          <a:off x="1181160" y="1447920"/>
          <a:ext cx="1028520" cy="9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1160" y="1447920"/>
                    <a:ext cx="10285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11"/>
          <p:cNvGraphicFramePr/>
          <p:nvPr/>
        </p:nvGraphicFramePr>
        <p:xfrm>
          <a:off x="3313080" y="1371600"/>
          <a:ext cx="344520" cy="111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3080" y="1371600"/>
                    <a:ext cx="3445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Mixer as The Front En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bands above 76GHz, mixers as the front-end of RX or last stage of TX are still comm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ellent designs by DB6NT &amp; DL2AM, and other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mple, easy, and yet very small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ce to pay is high conversion loss AND a poor noise fig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basic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istors a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lin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s a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n-lin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thi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n-line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ehavior that is used to create harmonics or mix sign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71" name="Object 11"/>
          <p:cNvGraphicFramePr/>
          <p:nvPr/>
        </p:nvGraphicFramePr>
        <p:xfrm>
          <a:off x="5326200" y="1600200"/>
          <a:ext cx="26827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6200" y="1600200"/>
                    <a:ext cx="26827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12"/>
          <p:cNvGraphicFramePr/>
          <p:nvPr/>
        </p:nvGraphicFramePr>
        <p:xfrm>
          <a:off x="5319720" y="3941640"/>
          <a:ext cx="26956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9720" y="3941640"/>
                    <a:ext cx="26956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s are not so simpl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876" name="Object 4"/>
          <p:cNvGraphicFramePr/>
          <p:nvPr/>
        </p:nvGraphicFramePr>
        <p:xfrm>
          <a:off x="1866960" y="1600200"/>
          <a:ext cx="541008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600200"/>
                    <a:ext cx="54100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sitics can limit diode RF performance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mm-waves, packaging is a real iss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amp;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ust be well understood for top-notch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Unique diod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m-wave diodes are very challeng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ckages include raw die, beam-lead, and flip-chips for the &gt;50GHz frequency r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s may only be a few hundred microns on a 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nction capacitance is measured i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 pictur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933480" cy="19051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3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1428840" cy="157140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4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324160" cy="21877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E:\jlh justin diode pics\thz row c.jpg"/>
          <p:cNvPicPr/>
          <p:nvPr/>
        </p:nvPicPr>
        <p:blipFill>
          <a:blip r:embed="rId4"/>
          <a:stretch/>
        </p:blipFill>
        <p:spPr>
          <a:xfrm>
            <a:off x="5867280" y="1752480"/>
            <a:ext cx="2225880" cy="16686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7" descr="E:\jlh justin diode pics\thz row a side.jpg"/>
          <p:cNvPicPr/>
          <p:nvPr/>
        </p:nvPicPr>
        <p:blipFill>
          <a:blip r:embed="rId5"/>
          <a:stretch/>
        </p:blipFill>
        <p:spPr>
          <a:xfrm>
            <a:off x="762120" y="4343400"/>
            <a:ext cx="2682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ommercial Mixer Block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88" name="Picture 2" descr="F:\Brian\W0EOM Mixers\1.bmp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other mixer…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3333600" cy="27525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4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2623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6:38:04Z</dcterms:created>
  <dc:creator>Administrator</dc:creator>
  <dc:description/>
  <dc:language>en-US</dc:language>
  <cp:lastModifiedBy>b</cp:lastModifiedBy>
  <dcterms:modified xsi:type="dcterms:W3CDTF">2011-09-26T15:33:10Z</dcterms:modified>
  <cp:revision>67</cp:revision>
  <dc:subject/>
  <dc:title>A Primer on mm-Wave Multipliers and Mixers</dc:title>
</cp:coreProperties>
</file>