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3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8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5A7-D089-49AC-8E06-F403D390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96C-027D-43BD-80C3-F8D7CB92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12D7B-480D-4B8E-98FC-BD084201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D9DB0-53B5-4D18-8F53-2805CDE0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92749-CCD3-43F3-B2A8-2BD5D47F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0B7AA-006D-47AD-9E12-2E904A3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99178-B44B-4599-B89C-316A01C9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38FD6-277F-41A8-8F36-35D41AE4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5D4F6-2EA2-4E16-9248-0F05CB64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C7B50-B8FA-4533-A70E-001BF883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91FEA-D8AE-4C52-8D4E-4DC35D63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9F25B-0673-4FD6-AD76-529F9B47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F47-08E8-4636-BECE-9BF7A802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BB7ED-1E17-4D0A-B488-7438B637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0EB69-E239-4272-B345-21F7B0A7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56B72-5E21-426E-8628-913CA547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1F8C3-1DA9-4BE6-95F2-5DEDADE5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D7581-59B4-4717-9805-EB8E22CC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D4B99-AB16-498E-B3F8-8F7B7DA1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E1C8C-1030-463B-9C31-A60569B6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75B3B-6BBE-4362-BF8F-B4B971A0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431D4-47A8-4CF9-8539-601B63AA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A7A12-91FD-46DD-8EA5-996FD1F4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61A-FF08-4EF5-9381-972391F3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084AC-4BB7-4A45-A660-1313EA8B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D0424-71FD-486D-B088-1CFE09D7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66584-4A4F-48F1-AFEC-09D5E570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89DF4-1A27-4BC7-919C-276B2E38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178E0-9BB8-4838-A1E2-E52AB384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B3F90-190A-41F3-AC1D-80CF21C3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CDCD6-8A2F-4959-9307-9A31047C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FAE86-4D85-44FE-BB04-F5189728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008DC-D051-4107-8543-88E0B71C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AD85D-02A5-402F-9616-4F4F0525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4EBD-AF21-49AC-B215-15C13F64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7831C-A24A-4527-B7CE-41CB4B8A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B1128-DA74-4E11-A9EB-0E3C6344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5D2E2-9C93-43B0-9663-B622F07A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43DB2-EF01-4FE8-B521-E72D6572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AC960-7AC0-4442-8AC4-CD15E195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49132-396A-4A62-9BF1-BF3635CB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459AC-F93F-4538-8EE5-664DCD64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5111F-09D8-4D56-AA70-CF276F18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3B597-3422-4305-8500-B23904C5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975CE-23CD-4118-B773-E9FE96AA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49D7-F990-49D5-BCC3-7F3DCFE8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F4A7E-D14A-418E-A3C5-CDAAE146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D77E6-70BE-44E8-9ECA-33428228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25EC5-BA93-4B48-9162-6BB86229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3300B-3832-4553-8011-83DBE15F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26AEA-0EAE-47CF-B797-35ECED4C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44C91-7627-4F9C-B198-B48FBECC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09B95-0FA6-4342-9690-A2E0FBE7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0E1B1-8010-4C8C-A890-3CBE4491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26FA6-6F21-4FCA-85F8-2EEA42C9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C2246-DAD7-43A5-9916-E5B5A37F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ED6C-D24F-43CF-AB7E-DA13886A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A281E-3338-4BE1-958D-7A4FDD6C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B4D1A-4642-43FC-B4D2-76C8838D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58D75-3D9B-4252-9347-652BB7BA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72EF8-54B5-49BF-A97C-2ADABCA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99B9E-6C22-4960-A80F-8587ED19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BC7AC-6218-4F3A-BC9F-353B3E89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E00FC-7105-41F0-8190-39A7F0CC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CE2C4-FBC9-44FE-BA18-6D40140A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1E673-728F-42E4-8B3F-EAFE66AC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E4123-1F95-4005-B9D4-B72DDB8C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BBA0-5CA8-4B4E-8A0C-6A0CD96E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2255E-9C58-4FAD-BF7B-3D8AC975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ACB90-4894-4467-BF4B-81725D59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76496-043D-4FA0-80A3-DC5CECCD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85C24-AD06-4A4A-BD70-C55D43E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BBDC2-7735-418D-9597-B7089329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DD856-27CC-40CD-BEB0-40C6823F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4955F-15CE-4021-B38B-3406CEC1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13827-EAD3-4DC6-BF0D-353F30F6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2A6E3-6AFB-4F31-AED6-6ACB1E4A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15EC4-36E8-4FFF-94E5-8E56C5EA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1A16-E3A0-47FF-B5B6-E9B56F14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3E492-0630-43D8-9A86-1E929D17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FC1C8-DBE6-4DE9-9727-1B0114D1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206B6-151A-40FC-B4AE-96769F55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F3A9F-C082-4B26-B568-D37F0EF2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1F80E-CFA3-46C2-B6E4-68B1AB96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595C1-13AF-48BD-A14C-455883C1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F7068-BCA6-4762-8AEE-079FBF50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9D821-4537-4EAF-A1D5-5BC34617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F450C-6BC8-485D-BF2A-F81F8A49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C08BA2-32FF-46FB-8CFD-C14C0E07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4408-27E0-492C-800D-68576944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1F054-28A2-4191-9D96-F716768C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1C8D-F016-4D4B-9E3E-4DDD1733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CFA-BA21-481F-8525-0A54F892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B44A-69F9-4478-B06B-D1833A61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C0E7-08BB-4F11-AFD8-3F4FA62D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C15D-B9E1-4439-A6B7-9C2CAB5B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EFBA-A077-4230-B517-AC7D1CD4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A39D-766A-40DC-8A04-819B8A52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9260-6826-40BC-BE7D-F46A775F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1CBEA-F825-415C-BF84-4ECB731E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C3F0-22EE-40B4-ADDB-10C65B65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451E-6075-4DD3-A677-ED749C9B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49D8-4778-41AC-AA2A-8ABF3F03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AC0-B0B0-441C-8E6B-4998625C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37FD-2DE9-4938-A165-DABD827D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D63F-1621-4C65-9206-EFAC7156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5166-D2F0-4D2C-B1B7-17252635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B6F9-F049-412F-B690-A041B6F5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01B8-89A6-4C91-A556-6FA87C4E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09DB-CF80-4370-9386-1D3EB052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48C1-5A04-45DD-99D0-59E04EDC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DEB1F-E9F3-48E0-A4D8-BE2B1FB9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56B9-8383-4D94-8988-45FAD59B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4841A-E214-496D-9FD7-15148203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0A6-E1CA-4DED-A695-DB2F304D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DBD7-D1AB-4E37-9DDD-91C15B07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9468-F1EB-441A-BC51-46C050FC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DBD20-DC0D-469E-A1AA-B3FBB304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35627-95D9-4967-9D64-0428A1C6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CC529-9D0A-492F-ADDB-F3C3CC9E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9136-4C66-414A-914D-7CE5403E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3D38-D7B4-4FD6-9053-91D28FDC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56BB-227E-4590-B666-16AABE11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BE2E-DA75-4679-9A8E-C59E4A9E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0B74B-7279-4093-A86B-0CDF4A18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C7B-D974-48ED-818B-1B7D816D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0AFB-51AC-4EC7-8FEA-6C7247D7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EA921-8F92-47F4-9A99-5A882426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69751-2485-4797-82AA-402452A9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42995-1B0E-494B-BC4E-1436EF1A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37DDB-0A57-476F-B20C-0262922D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E8D69-4F50-44FE-81A0-FF43B48C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37022-ACE0-44BB-B20E-82C84E22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DAA3-58B8-4384-8989-10EC2E75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72F86-1023-4343-A971-6CCD9321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967B9-B395-4D02-8EA9-39A9984C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3ED-D9FE-4BCA-B4F0-50E28373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090D-0327-49DD-923C-4B72F981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6FC7A-99BD-4177-AE63-5F553E3A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E0D8A-3C61-4FC7-B0C8-FFD810D7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CF5FA-AFD9-4584-B19B-83D9AEE0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97509-69D0-4481-9BF3-EE646503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B20B8-CEB2-451A-A4A5-D8B329E7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FEB37-63C5-4F18-9122-6C9A4BE9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62623-AFB5-46AA-A99F-23A0C9FD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13CD6-2EA2-46E0-B89E-279F8026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0FB08-4C45-4B20-A4BE-E7EC148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80B-C76C-42A2-8660-F8CF2AE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117BA-AF88-40DB-AF55-4ED5514B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30CAB-2061-44A6-90F7-0AADF71B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A9E9-A53C-4EE5-A363-74520D1B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F5ED2-E346-456D-8235-B8573227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9260B-D824-429D-9FFF-40F7F8C9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40191-A40F-4F3F-8B5B-E14FA22D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5A052-775D-4E52-8D2F-C0C1C015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C35DC-503F-4BCD-9AFA-22B13582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5A6C8-3EE2-47A1-9E25-02796727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A87D0-A7CC-42C7-A692-E8FAE8F1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ED8-01CA-488F-97CF-28C6F7F1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345D-3DEA-4D5E-9687-F69180BA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06716-AA93-4490-8139-0096646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E3665-89BE-4E17-878D-9AF54FCD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8DD87-E642-43AB-9A0E-271A8CD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B2DAF-7D8C-4CD8-B8D4-E4107F86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38A2C-758E-48A5-A61C-954AD431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DD2AA-F9D0-48FC-8551-0066FBE5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C8664-63E4-4658-B5CA-B394679F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2253C-A987-4413-B791-6A30DB0A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0D4B2-A774-41D9-90C2-AA7EE439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EAD-C60C-4919-B8CF-A17FD2D9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3622F-95CB-446D-BEF3-C60E750E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2DFC7-3AAB-4D5E-8D66-E4A1A0DD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323D8-295E-4476-995C-1B2E8F5E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6EFC8-00E8-418F-B60C-F71D8137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6EF34-FD75-4D86-A2C1-26372DAD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4657F-73DD-4558-ADDF-CAECE022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AEDB2-704C-437D-98A8-0BB5F542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86EBC-695A-4BD5-BC4D-974C8FF0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3E978-C813-491D-864D-2B04D4F6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4B023-36A2-4A18-AB58-F33DD23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384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7440" y="429696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8280" y="399996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6120" y="374112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5320" y="342468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6400" y="317052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4120" y="262728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840" y="236916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3640" y="181692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2080" y="428184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9C05-E3C6-4026-843C-25334634FC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1B03-B69B-45CD-9AA4-759E354AD2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E501-5866-4EF0-9CF6-279A08DA75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F0E9-756E-411D-A59A-C32960FBD8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536A-1541-4107-8A89-712288FF16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C2F4-F7F0-45F5-A4E8-5EE6B29F4E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670F-2601-4116-B8E4-67C4C5F5CC3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Group 166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400" y="4522320"/>
                            <a:ext cx="255600" cy="44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3680" y="43333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4520" y="40363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2360" y="37774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3360" y="346140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2640" y="32068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0360" y="26636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080" y="240552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9880" y="18532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60160"/>
                  <a:ext cx="31464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7560"/>
                  <a:ext cx="25488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3600" y="2246400"/>
                  <a:ext cx="182520" cy="17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6800" cy="22068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4A78-9FF4-4177-9B15-0E5480D467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9B0D-E68F-4C3D-B581-038589D644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255F-2713-4DB8-BF88-DBFD78D93A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7FEA-F0DB-4247-99EA-C250B2B8D9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30A9-E807-43E3-9AF4-A557A3B70A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7DEE-0A96-47C0-AE88-1B961010C6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2DC9-006B-40C9-94B5-3C01B34E9C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C157-AE27-489B-BB64-278CAF1D28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7e7dd"/>
                </a:solidFill>
                <a:latin typeface="Arial"/>
              </a:rPr>
              <a:t>Make More Miles with Your Mixers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3b34"/>
                </a:solidFill>
                <a:latin typeface="Verdana"/>
              </a:rPr>
              <a:t>Brian Justin, WA1Z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a3b34"/>
                </a:solidFill>
                <a:latin typeface="Verdana"/>
              </a:rPr>
              <a:t>f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3b34"/>
                </a:solidFill>
                <a:latin typeface="Verdana"/>
              </a:rPr>
              <a:t>Microwave Update 20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Hugh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6483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 mode for mix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ris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ble resistor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resistance is non-linea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ward bias c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for mix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of motor driven potentiome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gnal is current flowing in pot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LO drive is “spinning the knob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e: The LO modulates the RF/I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LO Drive Pow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key to a good mixer is LO dr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d to be able to pump or swing the diode across its full V-I cur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Rectangle 10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9" name="Object 12"/>
          <p:cNvGraphicFramePr/>
          <p:nvPr/>
        </p:nvGraphicFramePr>
        <p:xfrm>
          <a:off x="3048120" y="4495680"/>
          <a:ext cx="26953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495680"/>
                    <a:ext cx="26953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etting LO Drive to the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LO power is “cheap”, just run it up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B6NT PCB for &gt;100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543040" y="3809880"/>
            <a:ext cx="3333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imple Mix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05" name="Object 5"/>
          <p:cNvGraphicFramePr/>
          <p:nvPr/>
        </p:nvGraphicFramePr>
        <p:xfrm>
          <a:off x="990720" y="2362320"/>
          <a:ext cx="73152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3152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dding DC bias to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08" name="Object 15"/>
          <p:cNvGraphicFramePr/>
          <p:nvPr/>
        </p:nvGraphicFramePr>
        <p:xfrm>
          <a:off x="838080" y="1066680"/>
          <a:ext cx="75438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5438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’ve also just created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80880" y="44953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imple mix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st consider DC conditions of the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RF impedances must be matched for best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12" name="Object 6"/>
          <p:cNvGraphicFramePr/>
          <p:nvPr/>
        </p:nvGraphicFramePr>
        <p:xfrm>
          <a:off x="762120" y="1384200"/>
          <a:ext cx="716256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84200"/>
                    <a:ext cx="716256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hat does DC bias “buy us”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provides us a chance to select the operating point of a given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ward bias reduces need for large LO sig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low LO drive (even with bias) makes conversion loss higher than with high LO driv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ter than nothing thoug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ulation can show us that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6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709632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ircuit Simulation~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946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709632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-152280" y="-152280"/>
            <a:ext cx="54100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ircuit Simulation~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s talk will cov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asics of diode-based mm-wave mix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 of the basic diode as a non-linear de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stor mode of diode ope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 circuit topolo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ingle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21" name="Object 4"/>
          <p:cNvGraphicFramePr/>
          <p:nvPr/>
        </p:nvGraphicFramePr>
        <p:xfrm>
          <a:off x="985680" y="1600200"/>
          <a:ext cx="717264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600200"/>
                    <a:ext cx="71726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for general purpose mixer/mul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broadb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conversion loss (30</a:t>
            </a:r>
            <a:r>
              <a:rPr b="0" lang="en-US" sz="2400" spc="-1" strike="noStrike" baseline="5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B)…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&gt;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eries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25" name="Object 4"/>
          <p:cNvGraphicFramePr/>
          <p:nvPr/>
        </p:nvGraphicFramePr>
        <p:xfrm>
          <a:off x="914400" y="1371600"/>
          <a:ext cx="723744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237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ilar case as with single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take more drive pow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st for higher power TX mixe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used within the following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ti-parallel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called back-to-back p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cellent for power tripler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C bias prot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poor as mixer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0" name="Object 5"/>
          <p:cNvGraphicFramePr/>
          <p:nvPr/>
        </p:nvGraphicFramePr>
        <p:xfrm>
          <a:off x="457200" y="1606680"/>
          <a:ext cx="8229600" cy="21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6680"/>
                    <a:ext cx="822960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ti-series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33520" y="3885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for x3 harmonic mix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icult to implement balun for LO dr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4" name="Object 5"/>
          <p:cNvGraphicFramePr/>
          <p:nvPr/>
        </p:nvGraphicFramePr>
        <p:xfrm>
          <a:off x="457200" y="1657440"/>
          <a:ext cx="8229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7440"/>
                    <a:ext cx="8229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Example of WG balun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37" name="Picture 2" descr="F:\Brian\W0EOM Mixers\1.bmp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39" name="Object 7"/>
          <p:cNvGraphicFramePr/>
          <p:nvPr/>
        </p:nvGraphicFramePr>
        <p:xfrm>
          <a:off x="5181480" y="1523880"/>
          <a:ext cx="882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523880"/>
                    <a:ext cx="882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ed non-linear behavior of dio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w how drive power &amp; bias are import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ed common topolo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42" name="Object 8"/>
          <p:cNvGraphicFramePr/>
          <p:nvPr/>
        </p:nvGraphicFramePr>
        <p:xfrm>
          <a:off x="7238880" y="1371600"/>
          <a:ext cx="93996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371600"/>
                    <a:ext cx="9399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10"/>
          <p:cNvGraphicFramePr/>
          <p:nvPr/>
        </p:nvGraphicFramePr>
        <p:xfrm>
          <a:off x="1181160" y="1447920"/>
          <a:ext cx="1028520" cy="9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1160" y="1447920"/>
                    <a:ext cx="102852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11"/>
          <p:cNvGraphicFramePr/>
          <p:nvPr/>
        </p:nvGraphicFramePr>
        <p:xfrm>
          <a:off x="3313080" y="1371600"/>
          <a:ext cx="344520" cy="111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13080" y="1371600"/>
                    <a:ext cx="3445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Mixer as The Front End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bands above 76GHz, mixers as the front-end of RX or last stage of TX are still comm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ellent designs by DB6NT &amp; DL2AM, and others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mple, easy, and yet very small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ce to pay is high conversion loss AND a poor noise figu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basic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istors a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lin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s a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on-lin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this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on-line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ehavior that is used to create harmonics or mix sign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71" name="Object 11"/>
          <p:cNvGraphicFramePr/>
          <p:nvPr/>
        </p:nvGraphicFramePr>
        <p:xfrm>
          <a:off x="5326200" y="1600200"/>
          <a:ext cx="26827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26200" y="1600200"/>
                    <a:ext cx="26827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12"/>
          <p:cNvGraphicFramePr/>
          <p:nvPr/>
        </p:nvGraphicFramePr>
        <p:xfrm>
          <a:off x="5319720" y="3941640"/>
          <a:ext cx="26956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9720" y="3941640"/>
                    <a:ext cx="26956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s are not so simpl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876" name="Object 4"/>
          <p:cNvGraphicFramePr/>
          <p:nvPr/>
        </p:nvGraphicFramePr>
        <p:xfrm>
          <a:off x="1866960" y="1600200"/>
          <a:ext cx="541008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600200"/>
                    <a:ext cx="54100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sitics can limit diode RF performance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mm-waves, packaging is a real iss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amp;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ust be well understood for top-notch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Unique diod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m-wave diodes are very challeng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ckages include raw die, beam-lead, and flip-chips for the &gt;50GHz frequency r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s may only be a few hundred microns on a 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nction capacitance is measured i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 pictur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933480" cy="19051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3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1428840" cy="157140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4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2324160" cy="21877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6" descr="E:\jlh justin diode pics\thz row c.jpg"/>
          <p:cNvPicPr/>
          <p:nvPr/>
        </p:nvPicPr>
        <p:blipFill>
          <a:blip r:embed="rId4"/>
          <a:stretch/>
        </p:blipFill>
        <p:spPr>
          <a:xfrm>
            <a:off x="5867280" y="1752480"/>
            <a:ext cx="2225880" cy="166860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7" descr="E:\jlh justin diode pics\thz row a side.jpg"/>
          <p:cNvPicPr/>
          <p:nvPr/>
        </p:nvPicPr>
        <p:blipFill>
          <a:blip r:embed="rId5"/>
          <a:stretch/>
        </p:blipFill>
        <p:spPr>
          <a:xfrm>
            <a:off x="762120" y="4343400"/>
            <a:ext cx="2682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ommercial Mixer Block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88" name="Picture 2" descr="F:\Brian\W0EOM Mixers\1.bmp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other mixer…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3333600" cy="275256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4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2623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6:38:04Z</dcterms:created>
  <dc:creator>Administrator</dc:creator>
  <dc:description/>
  <dc:language>en-US</dc:language>
  <cp:lastModifiedBy>b</cp:lastModifiedBy>
  <dcterms:modified xsi:type="dcterms:W3CDTF">2011-09-26T15:33:10Z</dcterms:modified>
  <cp:revision>67</cp:revision>
  <dc:subject/>
  <dc:title>A Primer on mm-Wave Multipliers and Mixers</dc:title>
</cp:coreProperties>
</file>