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7.jpeg" ContentType="image/jpeg"/>
  <Override PartName="/ppt/media/image22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94440" cy="9280440"/>
          </a:xfrm>
          <a:custGeom>
            <a:avLst/>
            <a:gdLst>
              <a:gd name="textAreaLeft" fmla="*/ 360 w 6994440"/>
              <a:gd name="textAreaRight" fmla="*/ 6994080 w 699444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59">
                <a:moveTo>
                  <a:pt x="4" y="0"/>
                </a:moveTo>
                <a:arcTo wR="4" hR="4" stAng="16200000" swAng="-5400000"/>
                <a:lnTo>
                  <a:pt x="0" y="28655"/>
                </a:lnTo>
                <a:arcTo wR="4" hR="4" stAng="10800000" swAng="-5400000"/>
                <a:lnTo>
                  <a:pt x="21596" y="2865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994440" cy="9280440"/>
          </a:xfrm>
          <a:custGeom>
            <a:avLst/>
            <a:gdLst>
              <a:gd name="textAreaLeft" fmla="*/ 360 w 6994440"/>
              <a:gd name="textAreaRight" fmla="*/ 6994080 w 699444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59">
                <a:moveTo>
                  <a:pt x="4" y="0"/>
                </a:moveTo>
                <a:arcTo wR="4" hR="4" stAng="16200000" swAng="-5400000"/>
                <a:lnTo>
                  <a:pt x="0" y="28655"/>
                </a:lnTo>
                <a:arcTo wR="4" hR="4" stAng="10800000" swAng="-5400000"/>
                <a:lnTo>
                  <a:pt x="21596" y="2865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396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37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60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396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CFF49-50C5-4802-9259-42A8FED23B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17936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93312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17936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93312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17936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312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CE24-A8AD-4101-A4F3-46379D8C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26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CD9B-5C0E-4346-9939-6E62E7CB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5388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F18E-0E63-426A-B262-08F5CA4E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5388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5388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2134-00B6-4EB7-8E6A-8838D7FD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EB87-EBB4-42A8-9B65-4E8972CA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B9CE-A140-4DD5-88BA-1D0E7A0A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D686-D91A-40C3-897A-F0A3EE01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13AC-2094-4702-B511-968AB108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82263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9412-D56F-487E-8B1E-0CF24AD6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B286-888B-4BBC-A270-EB82F1A2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5388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6488-25CB-4868-B357-7B2CD76C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26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2D2F-3A81-474E-BF3A-552A9090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74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2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0 Dennis Sween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316BD-EBF4-44B9-92EB-2D1EE80A2F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57480"/>
            <a:ext cx="91440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febo.com/time-freq/index.html" TargetMode="External"/><Relationship Id="rId2" Type="http://schemas.openxmlformats.org/officeDocument/2006/relationships/hyperlink" Target="http://www.thegleam.com/ke5fx/" TargetMode="External"/><Relationship Id="rId3" Type="http://schemas.openxmlformats.org/officeDocument/2006/relationships/hyperlink" Target="http://www.wenzel.com/library1.htm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792468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36512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Tales from the Lab of WA4LPR: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The Science and Practice of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hase Noise 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16765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3660840"/>
            <a:ext cx="2895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ed for AM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ril 8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nis G. Sweene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4L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sweeney@vt.ed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Spectrum Analyzer Set up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92160" y="1440000"/>
            <a:ext cx="746460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43000" y="1281240"/>
            <a:ext cx="6006960" cy="5119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8600" y="196920"/>
            <a:ext cx="82281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KE5FX PN U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Noise Floor 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351080"/>
            <a:ext cx="7224840" cy="505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HP 8660 Phase Nois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77960" y="1306440"/>
            <a:ext cx="722448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PLL Based Phase Noise Measurement System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6154200" y="3008160"/>
            <a:ext cx="682920" cy="68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193640" y="3008160"/>
            <a:ext cx="682920" cy="68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46880" y="3008160"/>
            <a:ext cx="1165320" cy="596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46880" y="4400640"/>
            <a:ext cx="1079640" cy="79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32560" y="3094200"/>
            <a:ext cx="398520" cy="398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46880" y="4400640"/>
            <a:ext cx="312840" cy="28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59720" y="4400640"/>
            <a:ext cx="369720" cy="284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29440" y="4400640"/>
            <a:ext cx="398520" cy="284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29440" y="4400640"/>
            <a:ext cx="1800" cy="795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7402680" y="4483080"/>
            <a:ext cx="88560" cy="146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77120" y="4457880"/>
            <a:ext cx="227160" cy="56880"/>
          </a:xfrm>
          <a:custGeom>
            <a:avLst/>
            <a:gdLst/>
            <a:ahLst/>
            <a:rect l="l" t="t" r="r" b="b"/>
            <a:pathLst>
              <a:path w="629" h="159">
                <a:moveTo>
                  <a:pt x="628" y="158"/>
                </a:moveTo>
                <a:lnTo>
                  <a:pt x="628" y="150"/>
                </a:lnTo>
                <a:lnTo>
                  <a:pt x="626" y="142"/>
                </a:lnTo>
                <a:lnTo>
                  <a:pt x="624" y="134"/>
                </a:lnTo>
                <a:lnTo>
                  <a:pt x="622" y="126"/>
                </a:lnTo>
                <a:lnTo>
                  <a:pt x="618" y="119"/>
                </a:lnTo>
                <a:lnTo>
                  <a:pt x="614" y="111"/>
                </a:lnTo>
                <a:lnTo>
                  <a:pt x="609" y="103"/>
                </a:lnTo>
                <a:lnTo>
                  <a:pt x="603" y="96"/>
                </a:lnTo>
                <a:lnTo>
                  <a:pt x="596" y="89"/>
                </a:lnTo>
                <a:lnTo>
                  <a:pt x="589" y="82"/>
                </a:lnTo>
                <a:lnTo>
                  <a:pt x="581" y="75"/>
                </a:lnTo>
                <a:lnTo>
                  <a:pt x="572" y="68"/>
                </a:lnTo>
                <a:lnTo>
                  <a:pt x="563" y="62"/>
                </a:lnTo>
                <a:lnTo>
                  <a:pt x="553" y="56"/>
                </a:lnTo>
                <a:lnTo>
                  <a:pt x="542" y="50"/>
                </a:lnTo>
                <a:lnTo>
                  <a:pt x="531" y="44"/>
                </a:lnTo>
                <a:lnTo>
                  <a:pt x="520" y="39"/>
                </a:lnTo>
                <a:lnTo>
                  <a:pt x="507" y="34"/>
                </a:lnTo>
                <a:lnTo>
                  <a:pt x="495" y="29"/>
                </a:lnTo>
                <a:lnTo>
                  <a:pt x="481" y="24"/>
                </a:lnTo>
                <a:lnTo>
                  <a:pt x="468" y="20"/>
                </a:lnTo>
                <a:lnTo>
                  <a:pt x="454" y="17"/>
                </a:lnTo>
                <a:lnTo>
                  <a:pt x="439" y="13"/>
                </a:lnTo>
                <a:lnTo>
                  <a:pt x="425" y="10"/>
                </a:lnTo>
                <a:lnTo>
                  <a:pt x="410" y="8"/>
                </a:lnTo>
                <a:lnTo>
                  <a:pt x="395" y="5"/>
                </a:lnTo>
                <a:lnTo>
                  <a:pt x="379" y="4"/>
                </a:lnTo>
                <a:lnTo>
                  <a:pt x="364" y="2"/>
                </a:lnTo>
                <a:lnTo>
                  <a:pt x="348" y="1"/>
                </a:lnTo>
                <a:lnTo>
                  <a:pt x="332" y="0"/>
                </a:lnTo>
                <a:lnTo>
                  <a:pt x="316" y="0"/>
                </a:lnTo>
                <a:lnTo>
                  <a:pt x="300" y="0"/>
                </a:lnTo>
                <a:lnTo>
                  <a:pt x="285" y="1"/>
                </a:lnTo>
                <a:lnTo>
                  <a:pt x="269" y="2"/>
                </a:lnTo>
                <a:lnTo>
                  <a:pt x="253" y="3"/>
                </a:lnTo>
                <a:lnTo>
                  <a:pt x="238" y="5"/>
                </a:lnTo>
                <a:lnTo>
                  <a:pt x="223" y="7"/>
                </a:lnTo>
                <a:lnTo>
                  <a:pt x="207" y="9"/>
                </a:lnTo>
                <a:lnTo>
                  <a:pt x="193" y="12"/>
                </a:lnTo>
                <a:lnTo>
                  <a:pt x="178" y="15"/>
                </a:lnTo>
                <a:lnTo>
                  <a:pt x="164" y="19"/>
                </a:lnTo>
                <a:lnTo>
                  <a:pt x="150" y="23"/>
                </a:lnTo>
                <a:lnTo>
                  <a:pt x="137" y="27"/>
                </a:lnTo>
                <a:lnTo>
                  <a:pt x="124" y="32"/>
                </a:lnTo>
                <a:lnTo>
                  <a:pt x="112" y="37"/>
                </a:lnTo>
                <a:lnTo>
                  <a:pt x="100" y="42"/>
                </a:lnTo>
                <a:lnTo>
                  <a:pt x="88" y="47"/>
                </a:lnTo>
                <a:lnTo>
                  <a:pt x="77" y="53"/>
                </a:lnTo>
                <a:lnTo>
                  <a:pt x="67" y="59"/>
                </a:lnTo>
                <a:lnTo>
                  <a:pt x="58" y="66"/>
                </a:lnTo>
                <a:lnTo>
                  <a:pt x="49" y="72"/>
                </a:lnTo>
                <a:lnTo>
                  <a:pt x="40" y="79"/>
                </a:lnTo>
                <a:lnTo>
                  <a:pt x="33" y="86"/>
                </a:lnTo>
                <a:lnTo>
                  <a:pt x="26" y="93"/>
                </a:lnTo>
                <a:lnTo>
                  <a:pt x="20" y="100"/>
                </a:lnTo>
                <a:lnTo>
                  <a:pt x="14" y="108"/>
                </a:lnTo>
                <a:lnTo>
                  <a:pt x="10" y="115"/>
                </a:lnTo>
                <a:lnTo>
                  <a:pt x="6" y="123"/>
                </a:lnTo>
                <a:lnTo>
                  <a:pt x="3" y="131"/>
                </a:lnTo>
                <a:lnTo>
                  <a:pt x="0" y="13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39080" y="4429080"/>
            <a:ext cx="5796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2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3256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13840" y="479916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3108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831080" y="49687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1280" y="49687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8668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86880" y="32083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86680" y="32083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85040" y="332100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15320" y="3492360"/>
            <a:ext cx="57240" cy="572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15480" y="3492360"/>
            <a:ext cx="56880" cy="572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61200" y="3863880"/>
            <a:ext cx="139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electiv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48480" y="2666880"/>
            <a:ext cx="687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2960" y="1871640"/>
            <a:ext cx="13748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30 dB L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T1115/LT112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P2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M394/LM31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65720" y="3151080"/>
            <a:ext cx="455760" cy="397080"/>
          </a:xfrm>
          <a:prstGeom prst="roundRect">
            <a:avLst>
              <a:gd name="adj" fmla="val 3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45200" y="3201840"/>
            <a:ext cx="571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P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80120" y="1881360"/>
            <a:ext cx="72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30 dB A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M83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73400" y="3151080"/>
            <a:ext cx="473040" cy="398520"/>
          </a:xfrm>
          <a:prstGeom prst="roundRect">
            <a:avLst>
              <a:gd name="adj" fmla="val 3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5720" y="3203640"/>
            <a:ext cx="596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76560" y="3094200"/>
            <a:ext cx="511200" cy="5108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8640" y="2327400"/>
            <a:ext cx="511200" cy="5112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19480" y="3236760"/>
            <a:ext cx="226800" cy="227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19480" y="3234960"/>
            <a:ext cx="226800" cy="230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70120" y="2496960"/>
            <a:ext cx="114120" cy="86040"/>
          </a:xfrm>
          <a:custGeom>
            <a:avLst/>
            <a:gdLst/>
            <a:ahLst/>
            <a:rect l="l" t="t" r="r" b="b"/>
            <a:pathLst>
              <a:path w="317" h="239">
                <a:moveTo>
                  <a:pt x="316" y="238"/>
                </a:moveTo>
                <a:lnTo>
                  <a:pt x="316" y="227"/>
                </a:lnTo>
                <a:lnTo>
                  <a:pt x="315" y="215"/>
                </a:lnTo>
                <a:lnTo>
                  <a:pt x="314" y="203"/>
                </a:lnTo>
                <a:lnTo>
                  <a:pt x="313" y="191"/>
                </a:lnTo>
                <a:lnTo>
                  <a:pt x="311" y="180"/>
                </a:lnTo>
                <a:lnTo>
                  <a:pt x="309" y="169"/>
                </a:lnTo>
                <a:lnTo>
                  <a:pt x="307" y="157"/>
                </a:lnTo>
                <a:lnTo>
                  <a:pt x="304" y="146"/>
                </a:lnTo>
                <a:lnTo>
                  <a:pt x="301" y="135"/>
                </a:lnTo>
                <a:lnTo>
                  <a:pt x="297" y="125"/>
                </a:lnTo>
                <a:lnTo>
                  <a:pt x="294" y="115"/>
                </a:lnTo>
                <a:lnTo>
                  <a:pt x="289" y="105"/>
                </a:lnTo>
                <a:lnTo>
                  <a:pt x="285" y="95"/>
                </a:lnTo>
                <a:lnTo>
                  <a:pt x="280" y="86"/>
                </a:lnTo>
                <a:lnTo>
                  <a:pt x="275" y="77"/>
                </a:lnTo>
                <a:lnTo>
                  <a:pt x="269" y="68"/>
                </a:lnTo>
                <a:lnTo>
                  <a:pt x="263" y="60"/>
                </a:lnTo>
                <a:lnTo>
                  <a:pt x="257" y="53"/>
                </a:lnTo>
                <a:lnTo>
                  <a:pt x="251" y="45"/>
                </a:lnTo>
                <a:lnTo>
                  <a:pt x="245" y="39"/>
                </a:lnTo>
                <a:lnTo>
                  <a:pt x="238" y="32"/>
                </a:lnTo>
                <a:lnTo>
                  <a:pt x="231" y="27"/>
                </a:lnTo>
                <a:lnTo>
                  <a:pt x="224" y="22"/>
                </a:lnTo>
                <a:lnTo>
                  <a:pt x="217" y="17"/>
                </a:lnTo>
                <a:lnTo>
                  <a:pt x="209" y="13"/>
                </a:lnTo>
                <a:lnTo>
                  <a:pt x="202" y="9"/>
                </a:lnTo>
                <a:lnTo>
                  <a:pt x="194" y="6"/>
                </a:lnTo>
                <a:lnTo>
                  <a:pt x="186" y="4"/>
                </a:lnTo>
                <a:lnTo>
                  <a:pt x="179" y="2"/>
                </a:lnTo>
                <a:lnTo>
                  <a:pt x="171" y="1"/>
                </a:lnTo>
                <a:lnTo>
                  <a:pt x="163" y="0"/>
                </a:lnTo>
                <a:lnTo>
                  <a:pt x="155" y="0"/>
                </a:lnTo>
                <a:lnTo>
                  <a:pt x="147" y="1"/>
                </a:lnTo>
                <a:lnTo>
                  <a:pt x="139" y="2"/>
                </a:lnTo>
                <a:lnTo>
                  <a:pt x="131" y="3"/>
                </a:lnTo>
                <a:lnTo>
                  <a:pt x="124" y="6"/>
                </a:lnTo>
                <a:lnTo>
                  <a:pt x="116" y="9"/>
                </a:lnTo>
                <a:lnTo>
                  <a:pt x="108" y="12"/>
                </a:lnTo>
                <a:lnTo>
                  <a:pt x="101" y="16"/>
                </a:lnTo>
                <a:lnTo>
                  <a:pt x="94" y="21"/>
                </a:lnTo>
                <a:lnTo>
                  <a:pt x="86" y="26"/>
                </a:lnTo>
                <a:lnTo>
                  <a:pt x="79" y="31"/>
                </a:lnTo>
                <a:lnTo>
                  <a:pt x="73" y="37"/>
                </a:lnTo>
                <a:lnTo>
                  <a:pt x="66" y="44"/>
                </a:lnTo>
                <a:lnTo>
                  <a:pt x="60" y="51"/>
                </a:lnTo>
                <a:lnTo>
                  <a:pt x="54" y="59"/>
                </a:lnTo>
                <a:lnTo>
                  <a:pt x="48" y="67"/>
                </a:lnTo>
                <a:lnTo>
                  <a:pt x="42" y="75"/>
                </a:lnTo>
                <a:lnTo>
                  <a:pt x="37" y="84"/>
                </a:lnTo>
                <a:lnTo>
                  <a:pt x="32" y="93"/>
                </a:lnTo>
                <a:lnTo>
                  <a:pt x="28" y="103"/>
                </a:lnTo>
                <a:lnTo>
                  <a:pt x="23" y="113"/>
                </a:lnTo>
                <a:lnTo>
                  <a:pt x="19" y="123"/>
                </a:lnTo>
                <a:lnTo>
                  <a:pt x="16" y="133"/>
                </a:lnTo>
                <a:lnTo>
                  <a:pt x="12" y="144"/>
                </a:lnTo>
                <a:lnTo>
                  <a:pt x="10" y="155"/>
                </a:lnTo>
                <a:lnTo>
                  <a:pt x="7" y="166"/>
                </a:lnTo>
                <a:lnTo>
                  <a:pt x="5" y="178"/>
                </a:lnTo>
                <a:lnTo>
                  <a:pt x="3" y="189"/>
                </a:lnTo>
                <a:lnTo>
                  <a:pt x="2" y="201"/>
                </a:lnTo>
                <a:lnTo>
                  <a:pt x="1" y="212"/>
                </a:lnTo>
                <a:lnTo>
                  <a:pt x="0" y="224"/>
                </a:lnTo>
                <a:lnTo>
                  <a:pt x="0" y="2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84240" y="2581200"/>
            <a:ext cx="112680" cy="85680"/>
          </a:xfrm>
          <a:custGeom>
            <a:avLst/>
            <a:gdLst/>
            <a:ahLst/>
            <a:rect l="l" t="t" r="r" b="b"/>
            <a:pathLst>
              <a:path w="315" h="239">
                <a:moveTo>
                  <a:pt x="0" y="2"/>
                </a:moveTo>
                <a:lnTo>
                  <a:pt x="0" y="14"/>
                </a:lnTo>
                <a:lnTo>
                  <a:pt x="1" y="26"/>
                </a:lnTo>
                <a:lnTo>
                  <a:pt x="2" y="37"/>
                </a:lnTo>
                <a:lnTo>
                  <a:pt x="3" y="49"/>
                </a:lnTo>
                <a:lnTo>
                  <a:pt x="5" y="60"/>
                </a:lnTo>
                <a:lnTo>
                  <a:pt x="7" y="72"/>
                </a:lnTo>
                <a:lnTo>
                  <a:pt x="10" y="83"/>
                </a:lnTo>
                <a:lnTo>
                  <a:pt x="12" y="94"/>
                </a:lnTo>
                <a:lnTo>
                  <a:pt x="16" y="105"/>
                </a:lnTo>
                <a:lnTo>
                  <a:pt x="19" y="115"/>
                </a:lnTo>
                <a:lnTo>
                  <a:pt x="23" y="125"/>
                </a:lnTo>
                <a:lnTo>
                  <a:pt x="27" y="135"/>
                </a:lnTo>
                <a:lnTo>
                  <a:pt x="32" y="145"/>
                </a:lnTo>
                <a:lnTo>
                  <a:pt x="37" y="154"/>
                </a:lnTo>
                <a:lnTo>
                  <a:pt x="42" y="163"/>
                </a:lnTo>
                <a:lnTo>
                  <a:pt x="48" y="171"/>
                </a:lnTo>
                <a:lnTo>
                  <a:pt x="53" y="179"/>
                </a:lnTo>
                <a:lnTo>
                  <a:pt x="59" y="187"/>
                </a:lnTo>
                <a:lnTo>
                  <a:pt x="66" y="194"/>
                </a:lnTo>
                <a:lnTo>
                  <a:pt x="72" y="201"/>
                </a:lnTo>
                <a:lnTo>
                  <a:pt x="79" y="207"/>
                </a:lnTo>
                <a:lnTo>
                  <a:pt x="86" y="212"/>
                </a:lnTo>
                <a:lnTo>
                  <a:pt x="93" y="217"/>
                </a:lnTo>
                <a:lnTo>
                  <a:pt x="100" y="222"/>
                </a:lnTo>
                <a:lnTo>
                  <a:pt x="108" y="226"/>
                </a:lnTo>
                <a:lnTo>
                  <a:pt x="115" y="229"/>
                </a:lnTo>
                <a:lnTo>
                  <a:pt x="123" y="232"/>
                </a:lnTo>
                <a:lnTo>
                  <a:pt x="130" y="235"/>
                </a:lnTo>
                <a:lnTo>
                  <a:pt x="138" y="236"/>
                </a:lnTo>
                <a:lnTo>
                  <a:pt x="146" y="237"/>
                </a:lnTo>
                <a:lnTo>
                  <a:pt x="154" y="238"/>
                </a:lnTo>
                <a:lnTo>
                  <a:pt x="162" y="238"/>
                </a:lnTo>
                <a:lnTo>
                  <a:pt x="170" y="237"/>
                </a:lnTo>
                <a:lnTo>
                  <a:pt x="177" y="236"/>
                </a:lnTo>
                <a:lnTo>
                  <a:pt x="185" y="234"/>
                </a:lnTo>
                <a:lnTo>
                  <a:pt x="193" y="232"/>
                </a:lnTo>
                <a:lnTo>
                  <a:pt x="200" y="229"/>
                </a:lnTo>
                <a:lnTo>
                  <a:pt x="208" y="225"/>
                </a:lnTo>
                <a:lnTo>
                  <a:pt x="215" y="221"/>
                </a:lnTo>
                <a:lnTo>
                  <a:pt x="222" y="216"/>
                </a:lnTo>
                <a:lnTo>
                  <a:pt x="230" y="211"/>
                </a:lnTo>
                <a:lnTo>
                  <a:pt x="236" y="206"/>
                </a:lnTo>
                <a:lnTo>
                  <a:pt x="243" y="199"/>
                </a:lnTo>
                <a:lnTo>
                  <a:pt x="250" y="193"/>
                </a:lnTo>
                <a:lnTo>
                  <a:pt x="256" y="185"/>
                </a:lnTo>
                <a:lnTo>
                  <a:pt x="262" y="178"/>
                </a:lnTo>
                <a:lnTo>
                  <a:pt x="267" y="170"/>
                </a:lnTo>
                <a:lnTo>
                  <a:pt x="273" y="161"/>
                </a:lnTo>
                <a:lnTo>
                  <a:pt x="278" y="152"/>
                </a:lnTo>
                <a:lnTo>
                  <a:pt x="283" y="143"/>
                </a:lnTo>
                <a:lnTo>
                  <a:pt x="287" y="133"/>
                </a:lnTo>
                <a:lnTo>
                  <a:pt x="292" y="123"/>
                </a:lnTo>
                <a:lnTo>
                  <a:pt x="296" y="113"/>
                </a:lnTo>
                <a:lnTo>
                  <a:pt x="299" y="103"/>
                </a:lnTo>
                <a:lnTo>
                  <a:pt x="302" y="92"/>
                </a:lnTo>
                <a:lnTo>
                  <a:pt x="305" y="81"/>
                </a:lnTo>
                <a:lnTo>
                  <a:pt x="307" y="69"/>
                </a:lnTo>
                <a:lnTo>
                  <a:pt x="310" y="58"/>
                </a:lnTo>
                <a:lnTo>
                  <a:pt x="311" y="47"/>
                </a:lnTo>
                <a:lnTo>
                  <a:pt x="312" y="35"/>
                </a:lnTo>
                <a:lnTo>
                  <a:pt x="313" y="23"/>
                </a:lnTo>
                <a:lnTo>
                  <a:pt x="314" y="11"/>
                </a:lnTo>
                <a:lnTo>
                  <a:pt x="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8640" y="3917880"/>
            <a:ext cx="511200" cy="5112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70120" y="4087800"/>
            <a:ext cx="114120" cy="8748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316" y="241"/>
                </a:moveTo>
                <a:lnTo>
                  <a:pt x="316" y="229"/>
                </a:lnTo>
                <a:lnTo>
                  <a:pt x="315" y="217"/>
                </a:lnTo>
                <a:lnTo>
                  <a:pt x="315" y="205"/>
                </a:lnTo>
                <a:lnTo>
                  <a:pt x="313" y="193"/>
                </a:lnTo>
                <a:lnTo>
                  <a:pt x="312" y="182"/>
                </a:lnTo>
                <a:lnTo>
                  <a:pt x="310" y="170"/>
                </a:lnTo>
                <a:lnTo>
                  <a:pt x="307" y="159"/>
                </a:lnTo>
                <a:lnTo>
                  <a:pt x="305" y="148"/>
                </a:lnTo>
                <a:lnTo>
                  <a:pt x="301" y="137"/>
                </a:lnTo>
                <a:lnTo>
                  <a:pt x="298" y="126"/>
                </a:lnTo>
                <a:lnTo>
                  <a:pt x="294" y="116"/>
                </a:lnTo>
                <a:lnTo>
                  <a:pt x="290" y="106"/>
                </a:lnTo>
                <a:lnTo>
                  <a:pt x="285" y="96"/>
                </a:lnTo>
                <a:lnTo>
                  <a:pt x="280" y="87"/>
                </a:lnTo>
                <a:lnTo>
                  <a:pt x="275" y="78"/>
                </a:lnTo>
                <a:lnTo>
                  <a:pt x="270" y="69"/>
                </a:lnTo>
                <a:lnTo>
                  <a:pt x="264" y="61"/>
                </a:lnTo>
                <a:lnTo>
                  <a:pt x="258" y="53"/>
                </a:lnTo>
                <a:lnTo>
                  <a:pt x="252" y="46"/>
                </a:lnTo>
                <a:lnTo>
                  <a:pt x="245" y="39"/>
                </a:lnTo>
                <a:lnTo>
                  <a:pt x="238" y="33"/>
                </a:lnTo>
                <a:lnTo>
                  <a:pt x="231" y="27"/>
                </a:lnTo>
                <a:lnTo>
                  <a:pt x="224" y="22"/>
                </a:lnTo>
                <a:lnTo>
                  <a:pt x="217" y="17"/>
                </a:lnTo>
                <a:lnTo>
                  <a:pt x="210" y="13"/>
                </a:lnTo>
                <a:lnTo>
                  <a:pt x="202" y="9"/>
                </a:lnTo>
                <a:lnTo>
                  <a:pt x="194" y="6"/>
                </a:lnTo>
                <a:lnTo>
                  <a:pt x="186" y="4"/>
                </a:lnTo>
                <a:lnTo>
                  <a:pt x="179" y="2"/>
                </a:lnTo>
                <a:lnTo>
                  <a:pt x="171" y="1"/>
                </a:lnTo>
                <a:lnTo>
                  <a:pt x="163" y="0"/>
                </a:lnTo>
                <a:lnTo>
                  <a:pt x="155" y="0"/>
                </a:lnTo>
                <a:lnTo>
                  <a:pt x="147" y="1"/>
                </a:lnTo>
                <a:lnTo>
                  <a:pt x="139" y="2"/>
                </a:lnTo>
                <a:lnTo>
                  <a:pt x="131" y="3"/>
                </a:lnTo>
                <a:lnTo>
                  <a:pt x="123" y="6"/>
                </a:lnTo>
                <a:lnTo>
                  <a:pt x="116" y="9"/>
                </a:lnTo>
                <a:lnTo>
                  <a:pt x="108" y="12"/>
                </a:lnTo>
                <a:lnTo>
                  <a:pt x="100" y="16"/>
                </a:lnTo>
                <a:lnTo>
                  <a:pt x="93" y="21"/>
                </a:lnTo>
                <a:lnTo>
                  <a:pt x="86" y="26"/>
                </a:lnTo>
                <a:lnTo>
                  <a:pt x="79" y="32"/>
                </a:lnTo>
                <a:lnTo>
                  <a:pt x="72" y="38"/>
                </a:lnTo>
                <a:lnTo>
                  <a:pt x="66" y="45"/>
                </a:lnTo>
                <a:lnTo>
                  <a:pt x="59" y="52"/>
                </a:lnTo>
                <a:lnTo>
                  <a:pt x="53" y="59"/>
                </a:lnTo>
                <a:lnTo>
                  <a:pt x="47" y="67"/>
                </a:lnTo>
                <a:lnTo>
                  <a:pt x="42" y="76"/>
                </a:lnTo>
                <a:lnTo>
                  <a:pt x="37" y="85"/>
                </a:lnTo>
                <a:lnTo>
                  <a:pt x="32" y="94"/>
                </a:lnTo>
                <a:lnTo>
                  <a:pt x="27" y="104"/>
                </a:lnTo>
                <a:lnTo>
                  <a:pt x="23" y="114"/>
                </a:lnTo>
                <a:lnTo>
                  <a:pt x="19" y="124"/>
                </a:lnTo>
                <a:lnTo>
                  <a:pt x="15" y="135"/>
                </a:lnTo>
                <a:lnTo>
                  <a:pt x="12" y="146"/>
                </a:lnTo>
                <a:lnTo>
                  <a:pt x="9" y="157"/>
                </a:lnTo>
                <a:lnTo>
                  <a:pt x="7" y="168"/>
                </a:lnTo>
                <a:lnTo>
                  <a:pt x="5" y="180"/>
                </a:lnTo>
                <a:lnTo>
                  <a:pt x="3" y="191"/>
                </a:lnTo>
                <a:lnTo>
                  <a:pt x="2" y="203"/>
                </a:lnTo>
                <a:lnTo>
                  <a:pt x="1" y="215"/>
                </a:lnTo>
                <a:lnTo>
                  <a:pt x="0" y="227"/>
                </a:lnTo>
                <a:lnTo>
                  <a:pt x="0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84240" y="4172040"/>
            <a:ext cx="112680" cy="87120"/>
          </a:xfrm>
          <a:custGeom>
            <a:avLst/>
            <a:gdLst/>
            <a:ahLst/>
            <a:rect l="l" t="t" r="r" b="b"/>
            <a:pathLst>
              <a:path w="315" h="242">
                <a:moveTo>
                  <a:pt x="0" y="3"/>
                </a:moveTo>
                <a:lnTo>
                  <a:pt x="0" y="15"/>
                </a:lnTo>
                <a:lnTo>
                  <a:pt x="1" y="26"/>
                </a:lnTo>
                <a:lnTo>
                  <a:pt x="2" y="38"/>
                </a:lnTo>
                <a:lnTo>
                  <a:pt x="3" y="50"/>
                </a:lnTo>
                <a:lnTo>
                  <a:pt x="5" y="61"/>
                </a:lnTo>
                <a:lnTo>
                  <a:pt x="7" y="73"/>
                </a:lnTo>
                <a:lnTo>
                  <a:pt x="9" y="84"/>
                </a:lnTo>
                <a:lnTo>
                  <a:pt x="12" y="95"/>
                </a:lnTo>
                <a:lnTo>
                  <a:pt x="15" y="106"/>
                </a:lnTo>
                <a:lnTo>
                  <a:pt x="19" y="117"/>
                </a:lnTo>
                <a:lnTo>
                  <a:pt x="23" y="127"/>
                </a:lnTo>
                <a:lnTo>
                  <a:pt x="27" y="137"/>
                </a:lnTo>
                <a:lnTo>
                  <a:pt x="31" y="147"/>
                </a:lnTo>
                <a:lnTo>
                  <a:pt x="36" y="156"/>
                </a:lnTo>
                <a:lnTo>
                  <a:pt x="42" y="165"/>
                </a:lnTo>
                <a:lnTo>
                  <a:pt x="47" y="174"/>
                </a:lnTo>
                <a:lnTo>
                  <a:pt x="53" y="182"/>
                </a:lnTo>
                <a:lnTo>
                  <a:pt x="59" y="189"/>
                </a:lnTo>
                <a:lnTo>
                  <a:pt x="65" y="197"/>
                </a:lnTo>
                <a:lnTo>
                  <a:pt x="72" y="203"/>
                </a:lnTo>
                <a:lnTo>
                  <a:pt x="79" y="209"/>
                </a:lnTo>
                <a:lnTo>
                  <a:pt x="85" y="215"/>
                </a:lnTo>
                <a:lnTo>
                  <a:pt x="93" y="220"/>
                </a:lnTo>
                <a:lnTo>
                  <a:pt x="100" y="225"/>
                </a:lnTo>
                <a:lnTo>
                  <a:pt x="107" y="229"/>
                </a:lnTo>
                <a:lnTo>
                  <a:pt x="115" y="232"/>
                </a:lnTo>
                <a:lnTo>
                  <a:pt x="123" y="235"/>
                </a:lnTo>
                <a:lnTo>
                  <a:pt x="130" y="238"/>
                </a:lnTo>
                <a:lnTo>
                  <a:pt x="138" y="239"/>
                </a:lnTo>
                <a:lnTo>
                  <a:pt x="146" y="240"/>
                </a:lnTo>
                <a:lnTo>
                  <a:pt x="154" y="241"/>
                </a:lnTo>
                <a:lnTo>
                  <a:pt x="162" y="241"/>
                </a:lnTo>
                <a:lnTo>
                  <a:pt x="170" y="240"/>
                </a:lnTo>
                <a:lnTo>
                  <a:pt x="178" y="239"/>
                </a:lnTo>
                <a:lnTo>
                  <a:pt x="185" y="237"/>
                </a:lnTo>
                <a:lnTo>
                  <a:pt x="193" y="235"/>
                </a:lnTo>
                <a:lnTo>
                  <a:pt x="201" y="232"/>
                </a:lnTo>
                <a:lnTo>
                  <a:pt x="208" y="228"/>
                </a:lnTo>
                <a:lnTo>
                  <a:pt x="216" y="224"/>
                </a:lnTo>
                <a:lnTo>
                  <a:pt x="223" y="219"/>
                </a:lnTo>
                <a:lnTo>
                  <a:pt x="230" y="214"/>
                </a:lnTo>
                <a:lnTo>
                  <a:pt x="237" y="208"/>
                </a:lnTo>
                <a:lnTo>
                  <a:pt x="244" y="202"/>
                </a:lnTo>
                <a:lnTo>
                  <a:pt x="250" y="195"/>
                </a:lnTo>
                <a:lnTo>
                  <a:pt x="256" y="188"/>
                </a:lnTo>
                <a:lnTo>
                  <a:pt x="262" y="180"/>
                </a:lnTo>
                <a:lnTo>
                  <a:pt x="268" y="172"/>
                </a:lnTo>
                <a:lnTo>
                  <a:pt x="273" y="163"/>
                </a:lnTo>
                <a:lnTo>
                  <a:pt x="279" y="154"/>
                </a:lnTo>
                <a:lnTo>
                  <a:pt x="283" y="145"/>
                </a:lnTo>
                <a:lnTo>
                  <a:pt x="288" y="135"/>
                </a:lnTo>
                <a:lnTo>
                  <a:pt x="292" y="125"/>
                </a:lnTo>
                <a:lnTo>
                  <a:pt x="296" y="115"/>
                </a:lnTo>
                <a:lnTo>
                  <a:pt x="300" y="104"/>
                </a:lnTo>
                <a:lnTo>
                  <a:pt x="303" y="93"/>
                </a:lnTo>
                <a:lnTo>
                  <a:pt x="305" y="82"/>
                </a:lnTo>
                <a:lnTo>
                  <a:pt x="308" y="71"/>
                </a:lnTo>
                <a:lnTo>
                  <a:pt x="310" y="59"/>
                </a:lnTo>
                <a:lnTo>
                  <a:pt x="311" y="47"/>
                </a:lnTo>
                <a:lnTo>
                  <a:pt x="313" y="36"/>
                </a:lnTo>
                <a:lnTo>
                  <a:pt x="313" y="24"/>
                </a:lnTo>
                <a:lnTo>
                  <a:pt x="314" y="12"/>
                </a:lnTo>
                <a:lnTo>
                  <a:pt x="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76560" y="4913280"/>
            <a:ext cx="1079280" cy="568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63680" y="4938840"/>
            <a:ext cx="99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LL Lo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432160" y="3603600"/>
            <a:ext cx="1440" cy="571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2160" y="258300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982800" y="4427640"/>
            <a:ext cx="1440" cy="769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976400" y="25830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82800" y="5195880"/>
            <a:ext cx="11937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87760" y="3349800"/>
            <a:ext cx="482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4360" y="334980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09960" y="3349800"/>
            <a:ext cx="1800" cy="1847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55840" y="5195880"/>
            <a:ext cx="6541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5120" y="3349800"/>
            <a:ext cx="398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27600" y="3349800"/>
            <a:ext cx="425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5680" y="3349800"/>
            <a:ext cx="511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78600" y="4913280"/>
            <a:ext cx="3700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78600" y="3349800"/>
            <a:ext cx="1800" cy="1563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440" y="2413080"/>
            <a:ext cx="455760" cy="34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07800" y="2583000"/>
            <a:ext cx="315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608120" y="2523960"/>
            <a:ext cx="2844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163512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66536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69236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72260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74780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77804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80504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892160" y="2581200"/>
            <a:ext cx="2880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186228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833480" y="2525760"/>
            <a:ext cx="31680" cy="114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7840" y="1873080"/>
            <a:ext cx="87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95440" y="3679920"/>
            <a:ext cx="646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4200" y="3394080"/>
            <a:ext cx="149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Os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8400" y="1751040"/>
            <a:ext cx="55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Os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54720" y="5303880"/>
            <a:ext cx="1221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P 3590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60600" y="2568600"/>
            <a:ext cx="998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inicircui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ZLM-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010960" y="4170240"/>
            <a:ext cx="406440" cy="5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57360" y="4003560"/>
            <a:ext cx="455760" cy="34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242720" y="4175280"/>
            <a:ext cx="315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643040" y="4116240"/>
            <a:ext cx="2844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167004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70028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172728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75752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178272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81296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3996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927080" y="4171680"/>
            <a:ext cx="28800" cy="60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189720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868400" y="4118040"/>
            <a:ext cx="31680" cy="114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95440" y="2087640"/>
            <a:ext cx="646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HP3590A Selective Level Meter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09480" y="1476360"/>
            <a:ext cx="7429680" cy="482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What Comes Out?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12760" y="4340160"/>
            <a:ext cx="36576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L holds the two signals in phase quad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rives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hase error to zero inside loop bandwid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151160" y="2119320"/>
                <a:ext cx="2374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ef</m:t>
                        </m:r>
                      </m:sub>
                    </m:sSub>
                    <m: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048200" y="5154480"/>
                <a:ext cx="38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Δ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118040" y="3260880"/>
                <a:ext cx="48290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est</m:t>
                            </m:r>
                          </m:sub>
                        </m:sSub>
                        <m: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ef</m:t>
                            </m:r>
                          </m:sub>
                        </m:sSub>
                        <m: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899480" y="5562720"/>
                <a:ext cx="10396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≪</m:t>
                    </m:r>
                    <m:r>
                      <m:t xml:space="preserve">1</m:t>
                    </m:r>
                    <m:r>
                      <m:t xml:space="preserve">r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916440" y="4869000"/>
            <a:ext cx="5091120" cy="1069920"/>
          </a:xfrm>
          <a:prstGeom prst="rect">
            <a:avLst/>
          </a:prstGeom>
          <a:noFill/>
          <a:ln w="18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140360" y="1566720"/>
                <a:ext cx="24224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est</m:t>
                        </m:r>
                      </m:sub>
                    </m:sSub>
                    <m: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397400" y="3875040"/>
                <a:ext cx="430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298520" y="2616120"/>
            <a:ext cx="460440" cy="4939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4720" y="1874880"/>
            <a:ext cx="460440" cy="4935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25600" y="2752560"/>
            <a:ext cx="204840" cy="219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425600" y="2750760"/>
            <a:ext cx="204840" cy="22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2038320"/>
            <a:ext cx="103320" cy="8244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284" y="230"/>
                </a:moveTo>
                <a:lnTo>
                  <a:pt x="284" y="219"/>
                </a:lnTo>
                <a:lnTo>
                  <a:pt x="283" y="207"/>
                </a:lnTo>
                <a:lnTo>
                  <a:pt x="283" y="196"/>
                </a:lnTo>
                <a:lnTo>
                  <a:pt x="281" y="185"/>
                </a:lnTo>
                <a:lnTo>
                  <a:pt x="280" y="174"/>
                </a:lnTo>
                <a:lnTo>
                  <a:pt x="278" y="163"/>
                </a:lnTo>
                <a:lnTo>
                  <a:pt x="276" y="152"/>
                </a:lnTo>
                <a:lnTo>
                  <a:pt x="273" y="141"/>
                </a:lnTo>
                <a:lnTo>
                  <a:pt x="270" y="131"/>
                </a:lnTo>
                <a:lnTo>
                  <a:pt x="267" y="121"/>
                </a:lnTo>
                <a:lnTo>
                  <a:pt x="264" y="111"/>
                </a:lnTo>
                <a:lnTo>
                  <a:pt x="260" y="101"/>
                </a:lnTo>
                <a:lnTo>
                  <a:pt x="256" y="92"/>
                </a:lnTo>
                <a:lnTo>
                  <a:pt x="251" y="83"/>
                </a:lnTo>
                <a:lnTo>
                  <a:pt x="247" y="74"/>
                </a:lnTo>
                <a:lnTo>
                  <a:pt x="242" y="66"/>
                </a:lnTo>
                <a:lnTo>
                  <a:pt x="237" y="58"/>
                </a:lnTo>
                <a:lnTo>
                  <a:pt x="231" y="51"/>
                </a:lnTo>
                <a:lnTo>
                  <a:pt x="226" y="44"/>
                </a:lnTo>
                <a:lnTo>
                  <a:pt x="220" y="37"/>
                </a:lnTo>
                <a:lnTo>
                  <a:pt x="214" y="31"/>
                </a:lnTo>
                <a:lnTo>
                  <a:pt x="208" y="26"/>
                </a:lnTo>
                <a:lnTo>
                  <a:pt x="201" y="21"/>
                </a:lnTo>
                <a:lnTo>
                  <a:pt x="195" y="16"/>
                </a:lnTo>
                <a:lnTo>
                  <a:pt x="188" y="12"/>
                </a:lnTo>
                <a:lnTo>
                  <a:pt x="181" y="9"/>
                </a:lnTo>
                <a:lnTo>
                  <a:pt x="174" y="6"/>
                </a:lnTo>
                <a:lnTo>
                  <a:pt x="167" y="4"/>
                </a:lnTo>
                <a:lnTo>
                  <a:pt x="160" y="2"/>
                </a:lnTo>
                <a:lnTo>
                  <a:pt x="153" y="1"/>
                </a:lnTo>
                <a:lnTo>
                  <a:pt x="146" y="0"/>
                </a:lnTo>
                <a:lnTo>
                  <a:pt x="139" y="0"/>
                </a:lnTo>
                <a:lnTo>
                  <a:pt x="132" y="1"/>
                </a:lnTo>
                <a:lnTo>
                  <a:pt x="125" y="2"/>
                </a:lnTo>
                <a:lnTo>
                  <a:pt x="118" y="3"/>
                </a:lnTo>
                <a:lnTo>
                  <a:pt x="111" y="6"/>
                </a:lnTo>
                <a:lnTo>
                  <a:pt x="104" y="8"/>
                </a:lnTo>
                <a:lnTo>
                  <a:pt x="97" y="12"/>
                </a:lnTo>
                <a:lnTo>
                  <a:pt x="91" y="15"/>
                </a:lnTo>
                <a:lnTo>
                  <a:pt x="84" y="20"/>
                </a:lnTo>
                <a:lnTo>
                  <a:pt x="78" y="25"/>
                </a:lnTo>
                <a:lnTo>
                  <a:pt x="71" y="30"/>
                </a:lnTo>
                <a:lnTo>
                  <a:pt x="65" y="36"/>
                </a:lnTo>
                <a:lnTo>
                  <a:pt x="59" y="42"/>
                </a:lnTo>
                <a:lnTo>
                  <a:pt x="54" y="49"/>
                </a:lnTo>
                <a:lnTo>
                  <a:pt x="48" y="57"/>
                </a:lnTo>
                <a:lnTo>
                  <a:pt x="43" y="64"/>
                </a:lnTo>
                <a:lnTo>
                  <a:pt x="38" y="73"/>
                </a:lnTo>
                <a:lnTo>
                  <a:pt x="33" y="81"/>
                </a:lnTo>
                <a:lnTo>
                  <a:pt x="29" y="90"/>
                </a:lnTo>
                <a:lnTo>
                  <a:pt x="25" y="99"/>
                </a:lnTo>
                <a:lnTo>
                  <a:pt x="21" y="109"/>
                </a:lnTo>
                <a:lnTo>
                  <a:pt x="17" y="119"/>
                </a:lnTo>
                <a:lnTo>
                  <a:pt x="14" y="129"/>
                </a:lnTo>
                <a:lnTo>
                  <a:pt x="11" y="139"/>
                </a:lnTo>
                <a:lnTo>
                  <a:pt x="9" y="150"/>
                </a:lnTo>
                <a:lnTo>
                  <a:pt x="6" y="161"/>
                </a:lnTo>
                <a:lnTo>
                  <a:pt x="4" y="172"/>
                </a:lnTo>
                <a:lnTo>
                  <a:pt x="3" y="183"/>
                </a:lnTo>
                <a:lnTo>
                  <a:pt x="2" y="194"/>
                </a:lnTo>
                <a:lnTo>
                  <a:pt x="1" y="205"/>
                </a:lnTo>
                <a:lnTo>
                  <a:pt x="0" y="217"/>
                </a:lnTo>
                <a:lnTo>
                  <a:pt x="0" y="2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5120" y="2120760"/>
            <a:ext cx="102960" cy="8280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0" y="2"/>
                </a:moveTo>
                <a:lnTo>
                  <a:pt x="0" y="13"/>
                </a:lnTo>
                <a:lnTo>
                  <a:pt x="1" y="25"/>
                </a:lnTo>
                <a:lnTo>
                  <a:pt x="2" y="36"/>
                </a:lnTo>
                <a:lnTo>
                  <a:pt x="3" y="47"/>
                </a:lnTo>
                <a:lnTo>
                  <a:pt x="4" y="58"/>
                </a:lnTo>
                <a:lnTo>
                  <a:pt x="6" y="69"/>
                </a:lnTo>
                <a:lnTo>
                  <a:pt x="9" y="80"/>
                </a:lnTo>
                <a:lnTo>
                  <a:pt x="11" y="91"/>
                </a:lnTo>
                <a:lnTo>
                  <a:pt x="14" y="101"/>
                </a:lnTo>
                <a:lnTo>
                  <a:pt x="17" y="111"/>
                </a:lnTo>
                <a:lnTo>
                  <a:pt x="21" y="121"/>
                </a:lnTo>
                <a:lnTo>
                  <a:pt x="25" y="131"/>
                </a:lnTo>
                <a:lnTo>
                  <a:pt x="29" y="140"/>
                </a:lnTo>
                <a:lnTo>
                  <a:pt x="33" y="149"/>
                </a:lnTo>
                <a:lnTo>
                  <a:pt x="38" y="157"/>
                </a:lnTo>
                <a:lnTo>
                  <a:pt x="43" y="166"/>
                </a:lnTo>
                <a:lnTo>
                  <a:pt x="48" y="173"/>
                </a:lnTo>
                <a:lnTo>
                  <a:pt x="54" y="181"/>
                </a:lnTo>
                <a:lnTo>
                  <a:pt x="59" y="188"/>
                </a:lnTo>
                <a:lnTo>
                  <a:pt x="65" y="194"/>
                </a:lnTo>
                <a:lnTo>
                  <a:pt x="71" y="200"/>
                </a:lnTo>
                <a:lnTo>
                  <a:pt x="78" y="205"/>
                </a:lnTo>
                <a:lnTo>
                  <a:pt x="84" y="210"/>
                </a:lnTo>
                <a:lnTo>
                  <a:pt x="91" y="215"/>
                </a:lnTo>
                <a:lnTo>
                  <a:pt x="97" y="218"/>
                </a:lnTo>
                <a:lnTo>
                  <a:pt x="104" y="222"/>
                </a:lnTo>
                <a:lnTo>
                  <a:pt x="111" y="225"/>
                </a:lnTo>
                <a:lnTo>
                  <a:pt x="118" y="227"/>
                </a:lnTo>
                <a:lnTo>
                  <a:pt x="125" y="228"/>
                </a:lnTo>
                <a:lnTo>
                  <a:pt x="132" y="229"/>
                </a:lnTo>
                <a:lnTo>
                  <a:pt x="139" y="230"/>
                </a:lnTo>
                <a:lnTo>
                  <a:pt x="146" y="230"/>
                </a:lnTo>
                <a:lnTo>
                  <a:pt x="153" y="229"/>
                </a:lnTo>
                <a:lnTo>
                  <a:pt x="160" y="228"/>
                </a:lnTo>
                <a:lnTo>
                  <a:pt x="167" y="226"/>
                </a:lnTo>
                <a:lnTo>
                  <a:pt x="174" y="224"/>
                </a:lnTo>
                <a:lnTo>
                  <a:pt x="181" y="221"/>
                </a:lnTo>
                <a:lnTo>
                  <a:pt x="188" y="218"/>
                </a:lnTo>
                <a:lnTo>
                  <a:pt x="195" y="214"/>
                </a:lnTo>
                <a:lnTo>
                  <a:pt x="201" y="209"/>
                </a:lnTo>
                <a:lnTo>
                  <a:pt x="208" y="204"/>
                </a:lnTo>
                <a:lnTo>
                  <a:pt x="214" y="199"/>
                </a:lnTo>
                <a:lnTo>
                  <a:pt x="220" y="193"/>
                </a:lnTo>
                <a:lnTo>
                  <a:pt x="226" y="186"/>
                </a:lnTo>
                <a:lnTo>
                  <a:pt x="231" y="179"/>
                </a:lnTo>
                <a:lnTo>
                  <a:pt x="237" y="172"/>
                </a:lnTo>
                <a:lnTo>
                  <a:pt x="242" y="164"/>
                </a:lnTo>
                <a:lnTo>
                  <a:pt x="247" y="156"/>
                </a:lnTo>
                <a:lnTo>
                  <a:pt x="251" y="147"/>
                </a:lnTo>
                <a:lnTo>
                  <a:pt x="256" y="138"/>
                </a:lnTo>
                <a:lnTo>
                  <a:pt x="260" y="129"/>
                </a:lnTo>
                <a:lnTo>
                  <a:pt x="264" y="119"/>
                </a:lnTo>
                <a:lnTo>
                  <a:pt x="267" y="109"/>
                </a:lnTo>
                <a:lnTo>
                  <a:pt x="270" y="99"/>
                </a:lnTo>
                <a:lnTo>
                  <a:pt x="273" y="89"/>
                </a:lnTo>
                <a:lnTo>
                  <a:pt x="276" y="78"/>
                </a:lnTo>
                <a:lnTo>
                  <a:pt x="278" y="67"/>
                </a:lnTo>
                <a:lnTo>
                  <a:pt x="280" y="56"/>
                </a:lnTo>
                <a:lnTo>
                  <a:pt x="281" y="45"/>
                </a:lnTo>
                <a:lnTo>
                  <a:pt x="283" y="34"/>
                </a:lnTo>
                <a:lnTo>
                  <a:pt x="283" y="22"/>
                </a:lnTo>
                <a:lnTo>
                  <a:pt x="284" y="11"/>
                </a:lnTo>
                <a:lnTo>
                  <a:pt x="2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4720" y="3411360"/>
            <a:ext cx="460440" cy="4939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1800" y="3575160"/>
            <a:ext cx="103320" cy="8244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284" y="230"/>
                </a:moveTo>
                <a:lnTo>
                  <a:pt x="284" y="219"/>
                </a:lnTo>
                <a:lnTo>
                  <a:pt x="283" y="207"/>
                </a:lnTo>
                <a:lnTo>
                  <a:pt x="283" y="196"/>
                </a:lnTo>
                <a:lnTo>
                  <a:pt x="281" y="185"/>
                </a:lnTo>
                <a:lnTo>
                  <a:pt x="280" y="174"/>
                </a:lnTo>
                <a:lnTo>
                  <a:pt x="278" y="163"/>
                </a:lnTo>
                <a:lnTo>
                  <a:pt x="276" y="152"/>
                </a:lnTo>
                <a:lnTo>
                  <a:pt x="273" y="141"/>
                </a:lnTo>
                <a:lnTo>
                  <a:pt x="270" y="131"/>
                </a:lnTo>
                <a:lnTo>
                  <a:pt x="267" y="121"/>
                </a:lnTo>
                <a:lnTo>
                  <a:pt x="264" y="111"/>
                </a:lnTo>
                <a:lnTo>
                  <a:pt x="260" y="101"/>
                </a:lnTo>
                <a:lnTo>
                  <a:pt x="256" y="92"/>
                </a:lnTo>
                <a:lnTo>
                  <a:pt x="251" y="83"/>
                </a:lnTo>
                <a:lnTo>
                  <a:pt x="247" y="74"/>
                </a:lnTo>
                <a:lnTo>
                  <a:pt x="242" y="66"/>
                </a:lnTo>
                <a:lnTo>
                  <a:pt x="237" y="58"/>
                </a:lnTo>
                <a:lnTo>
                  <a:pt x="231" y="51"/>
                </a:lnTo>
                <a:lnTo>
                  <a:pt x="226" y="44"/>
                </a:lnTo>
                <a:lnTo>
                  <a:pt x="220" y="37"/>
                </a:lnTo>
                <a:lnTo>
                  <a:pt x="214" y="31"/>
                </a:lnTo>
                <a:lnTo>
                  <a:pt x="208" y="26"/>
                </a:lnTo>
                <a:lnTo>
                  <a:pt x="201" y="21"/>
                </a:lnTo>
                <a:lnTo>
                  <a:pt x="195" y="16"/>
                </a:lnTo>
                <a:lnTo>
                  <a:pt x="188" y="12"/>
                </a:lnTo>
                <a:lnTo>
                  <a:pt x="181" y="9"/>
                </a:lnTo>
                <a:lnTo>
                  <a:pt x="174" y="6"/>
                </a:lnTo>
                <a:lnTo>
                  <a:pt x="167" y="4"/>
                </a:lnTo>
                <a:lnTo>
                  <a:pt x="160" y="2"/>
                </a:lnTo>
                <a:lnTo>
                  <a:pt x="153" y="1"/>
                </a:lnTo>
                <a:lnTo>
                  <a:pt x="146" y="0"/>
                </a:lnTo>
                <a:lnTo>
                  <a:pt x="139" y="0"/>
                </a:lnTo>
                <a:lnTo>
                  <a:pt x="132" y="1"/>
                </a:lnTo>
                <a:lnTo>
                  <a:pt x="125" y="2"/>
                </a:lnTo>
                <a:lnTo>
                  <a:pt x="118" y="3"/>
                </a:lnTo>
                <a:lnTo>
                  <a:pt x="111" y="6"/>
                </a:lnTo>
                <a:lnTo>
                  <a:pt x="104" y="8"/>
                </a:lnTo>
                <a:lnTo>
                  <a:pt x="97" y="12"/>
                </a:lnTo>
                <a:lnTo>
                  <a:pt x="91" y="15"/>
                </a:lnTo>
                <a:lnTo>
                  <a:pt x="84" y="20"/>
                </a:lnTo>
                <a:lnTo>
                  <a:pt x="78" y="25"/>
                </a:lnTo>
                <a:lnTo>
                  <a:pt x="71" y="30"/>
                </a:lnTo>
                <a:lnTo>
                  <a:pt x="65" y="36"/>
                </a:lnTo>
                <a:lnTo>
                  <a:pt x="59" y="42"/>
                </a:lnTo>
                <a:lnTo>
                  <a:pt x="54" y="49"/>
                </a:lnTo>
                <a:lnTo>
                  <a:pt x="48" y="57"/>
                </a:lnTo>
                <a:lnTo>
                  <a:pt x="43" y="64"/>
                </a:lnTo>
                <a:lnTo>
                  <a:pt x="38" y="73"/>
                </a:lnTo>
                <a:lnTo>
                  <a:pt x="33" y="81"/>
                </a:lnTo>
                <a:lnTo>
                  <a:pt x="29" y="90"/>
                </a:lnTo>
                <a:lnTo>
                  <a:pt x="25" y="99"/>
                </a:lnTo>
                <a:lnTo>
                  <a:pt x="21" y="109"/>
                </a:lnTo>
                <a:lnTo>
                  <a:pt x="17" y="119"/>
                </a:lnTo>
                <a:lnTo>
                  <a:pt x="14" y="129"/>
                </a:lnTo>
                <a:lnTo>
                  <a:pt x="11" y="139"/>
                </a:lnTo>
                <a:lnTo>
                  <a:pt x="9" y="150"/>
                </a:lnTo>
                <a:lnTo>
                  <a:pt x="6" y="161"/>
                </a:lnTo>
                <a:lnTo>
                  <a:pt x="4" y="172"/>
                </a:lnTo>
                <a:lnTo>
                  <a:pt x="3" y="183"/>
                </a:lnTo>
                <a:lnTo>
                  <a:pt x="2" y="194"/>
                </a:lnTo>
                <a:lnTo>
                  <a:pt x="1" y="205"/>
                </a:lnTo>
                <a:lnTo>
                  <a:pt x="0" y="217"/>
                </a:lnTo>
                <a:lnTo>
                  <a:pt x="0" y="2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5120" y="3657600"/>
            <a:ext cx="102960" cy="8244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0" y="2"/>
                </a:moveTo>
                <a:lnTo>
                  <a:pt x="0" y="13"/>
                </a:lnTo>
                <a:lnTo>
                  <a:pt x="1" y="25"/>
                </a:lnTo>
                <a:lnTo>
                  <a:pt x="2" y="36"/>
                </a:lnTo>
                <a:lnTo>
                  <a:pt x="3" y="47"/>
                </a:lnTo>
                <a:lnTo>
                  <a:pt x="4" y="58"/>
                </a:lnTo>
                <a:lnTo>
                  <a:pt x="6" y="69"/>
                </a:lnTo>
                <a:lnTo>
                  <a:pt x="9" y="80"/>
                </a:lnTo>
                <a:lnTo>
                  <a:pt x="11" y="91"/>
                </a:lnTo>
                <a:lnTo>
                  <a:pt x="14" y="101"/>
                </a:lnTo>
                <a:lnTo>
                  <a:pt x="17" y="111"/>
                </a:lnTo>
                <a:lnTo>
                  <a:pt x="21" y="121"/>
                </a:lnTo>
                <a:lnTo>
                  <a:pt x="25" y="131"/>
                </a:lnTo>
                <a:lnTo>
                  <a:pt x="29" y="140"/>
                </a:lnTo>
                <a:lnTo>
                  <a:pt x="33" y="149"/>
                </a:lnTo>
                <a:lnTo>
                  <a:pt x="38" y="157"/>
                </a:lnTo>
                <a:lnTo>
                  <a:pt x="43" y="166"/>
                </a:lnTo>
                <a:lnTo>
                  <a:pt x="48" y="173"/>
                </a:lnTo>
                <a:lnTo>
                  <a:pt x="54" y="181"/>
                </a:lnTo>
                <a:lnTo>
                  <a:pt x="59" y="188"/>
                </a:lnTo>
                <a:lnTo>
                  <a:pt x="65" y="194"/>
                </a:lnTo>
                <a:lnTo>
                  <a:pt x="71" y="200"/>
                </a:lnTo>
                <a:lnTo>
                  <a:pt x="78" y="205"/>
                </a:lnTo>
                <a:lnTo>
                  <a:pt x="84" y="210"/>
                </a:lnTo>
                <a:lnTo>
                  <a:pt x="91" y="215"/>
                </a:lnTo>
                <a:lnTo>
                  <a:pt x="97" y="218"/>
                </a:lnTo>
                <a:lnTo>
                  <a:pt x="104" y="222"/>
                </a:lnTo>
                <a:lnTo>
                  <a:pt x="111" y="225"/>
                </a:lnTo>
                <a:lnTo>
                  <a:pt x="118" y="227"/>
                </a:lnTo>
                <a:lnTo>
                  <a:pt x="125" y="228"/>
                </a:lnTo>
                <a:lnTo>
                  <a:pt x="132" y="229"/>
                </a:lnTo>
                <a:lnTo>
                  <a:pt x="139" y="230"/>
                </a:lnTo>
                <a:lnTo>
                  <a:pt x="146" y="230"/>
                </a:lnTo>
                <a:lnTo>
                  <a:pt x="153" y="229"/>
                </a:lnTo>
                <a:lnTo>
                  <a:pt x="160" y="228"/>
                </a:lnTo>
                <a:lnTo>
                  <a:pt x="167" y="226"/>
                </a:lnTo>
                <a:lnTo>
                  <a:pt x="174" y="224"/>
                </a:lnTo>
                <a:lnTo>
                  <a:pt x="181" y="221"/>
                </a:lnTo>
                <a:lnTo>
                  <a:pt x="188" y="218"/>
                </a:lnTo>
                <a:lnTo>
                  <a:pt x="195" y="214"/>
                </a:lnTo>
                <a:lnTo>
                  <a:pt x="201" y="209"/>
                </a:lnTo>
                <a:lnTo>
                  <a:pt x="208" y="204"/>
                </a:lnTo>
                <a:lnTo>
                  <a:pt x="214" y="199"/>
                </a:lnTo>
                <a:lnTo>
                  <a:pt x="220" y="193"/>
                </a:lnTo>
                <a:lnTo>
                  <a:pt x="226" y="186"/>
                </a:lnTo>
                <a:lnTo>
                  <a:pt x="231" y="179"/>
                </a:lnTo>
                <a:lnTo>
                  <a:pt x="237" y="172"/>
                </a:lnTo>
                <a:lnTo>
                  <a:pt x="242" y="164"/>
                </a:lnTo>
                <a:lnTo>
                  <a:pt x="247" y="156"/>
                </a:lnTo>
                <a:lnTo>
                  <a:pt x="251" y="147"/>
                </a:lnTo>
                <a:lnTo>
                  <a:pt x="256" y="138"/>
                </a:lnTo>
                <a:lnTo>
                  <a:pt x="260" y="129"/>
                </a:lnTo>
                <a:lnTo>
                  <a:pt x="264" y="119"/>
                </a:lnTo>
                <a:lnTo>
                  <a:pt x="267" y="109"/>
                </a:lnTo>
                <a:lnTo>
                  <a:pt x="270" y="99"/>
                </a:lnTo>
                <a:lnTo>
                  <a:pt x="273" y="89"/>
                </a:lnTo>
                <a:lnTo>
                  <a:pt x="276" y="78"/>
                </a:lnTo>
                <a:lnTo>
                  <a:pt x="278" y="67"/>
                </a:lnTo>
                <a:lnTo>
                  <a:pt x="280" y="56"/>
                </a:lnTo>
                <a:lnTo>
                  <a:pt x="281" y="45"/>
                </a:lnTo>
                <a:lnTo>
                  <a:pt x="283" y="34"/>
                </a:lnTo>
                <a:lnTo>
                  <a:pt x="283" y="22"/>
                </a:lnTo>
                <a:lnTo>
                  <a:pt x="284" y="11"/>
                </a:lnTo>
                <a:lnTo>
                  <a:pt x="2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528920" y="3106800"/>
            <a:ext cx="1440" cy="552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8920" y="2120760"/>
            <a:ext cx="1440" cy="493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963720" y="2122560"/>
            <a:ext cx="566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963720" y="3657600"/>
            <a:ext cx="566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1800" y="2038320"/>
            <a:ext cx="103320" cy="8244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284" y="230"/>
                </a:moveTo>
                <a:lnTo>
                  <a:pt x="284" y="219"/>
                </a:lnTo>
                <a:lnTo>
                  <a:pt x="283" y="207"/>
                </a:lnTo>
                <a:lnTo>
                  <a:pt x="283" y="196"/>
                </a:lnTo>
                <a:lnTo>
                  <a:pt x="281" y="185"/>
                </a:lnTo>
                <a:lnTo>
                  <a:pt x="280" y="174"/>
                </a:lnTo>
                <a:lnTo>
                  <a:pt x="278" y="163"/>
                </a:lnTo>
                <a:lnTo>
                  <a:pt x="276" y="152"/>
                </a:lnTo>
                <a:lnTo>
                  <a:pt x="273" y="141"/>
                </a:lnTo>
                <a:lnTo>
                  <a:pt x="270" y="131"/>
                </a:lnTo>
                <a:lnTo>
                  <a:pt x="267" y="121"/>
                </a:lnTo>
                <a:lnTo>
                  <a:pt x="264" y="111"/>
                </a:lnTo>
                <a:lnTo>
                  <a:pt x="260" y="101"/>
                </a:lnTo>
                <a:lnTo>
                  <a:pt x="256" y="92"/>
                </a:lnTo>
                <a:lnTo>
                  <a:pt x="251" y="83"/>
                </a:lnTo>
                <a:lnTo>
                  <a:pt x="247" y="74"/>
                </a:lnTo>
                <a:lnTo>
                  <a:pt x="242" y="66"/>
                </a:lnTo>
                <a:lnTo>
                  <a:pt x="237" y="58"/>
                </a:lnTo>
                <a:lnTo>
                  <a:pt x="231" y="51"/>
                </a:lnTo>
                <a:lnTo>
                  <a:pt x="226" y="44"/>
                </a:lnTo>
                <a:lnTo>
                  <a:pt x="220" y="37"/>
                </a:lnTo>
                <a:lnTo>
                  <a:pt x="214" y="31"/>
                </a:lnTo>
                <a:lnTo>
                  <a:pt x="208" y="26"/>
                </a:lnTo>
                <a:lnTo>
                  <a:pt x="201" y="21"/>
                </a:lnTo>
                <a:lnTo>
                  <a:pt x="195" y="16"/>
                </a:lnTo>
                <a:lnTo>
                  <a:pt x="188" y="12"/>
                </a:lnTo>
                <a:lnTo>
                  <a:pt x="181" y="9"/>
                </a:lnTo>
                <a:lnTo>
                  <a:pt x="174" y="6"/>
                </a:lnTo>
                <a:lnTo>
                  <a:pt x="167" y="4"/>
                </a:lnTo>
                <a:lnTo>
                  <a:pt x="160" y="2"/>
                </a:lnTo>
                <a:lnTo>
                  <a:pt x="153" y="1"/>
                </a:lnTo>
                <a:lnTo>
                  <a:pt x="146" y="0"/>
                </a:lnTo>
                <a:lnTo>
                  <a:pt x="139" y="0"/>
                </a:lnTo>
                <a:lnTo>
                  <a:pt x="132" y="1"/>
                </a:lnTo>
                <a:lnTo>
                  <a:pt x="125" y="2"/>
                </a:lnTo>
                <a:lnTo>
                  <a:pt x="118" y="3"/>
                </a:lnTo>
                <a:lnTo>
                  <a:pt x="111" y="6"/>
                </a:lnTo>
                <a:lnTo>
                  <a:pt x="104" y="8"/>
                </a:lnTo>
                <a:lnTo>
                  <a:pt x="97" y="12"/>
                </a:lnTo>
                <a:lnTo>
                  <a:pt x="91" y="15"/>
                </a:lnTo>
                <a:lnTo>
                  <a:pt x="84" y="20"/>
                </a:lnTo>
                <a:lnTo>
                  <a:pt x="78" y="25"/>
                </a:lnTo>
                <a:lnTo>
                  <a:pt x="71" y="30"/>
                </a:lnTo>
                <a:lnTo>
                  <a:pt x="65" y="36"/>
                </a:lnTo>
                <a:lnTo>
                  <a:pt x="59" y="42"/>
                </a:lnTo>
                <a:lnTo>
                  <a:pt x="54" y="49"/>
                </a:lnTo>
                <a:lnTo>
                  <a:pt x="48" y="57"/>
                </a:lnTo>
                <a:lnTo>
                  <a:pt x="43" y="64"/>
                </a:lnTo>
                <a:lnTo>
                  <a:pt x="38" y="73"/>
                </a:lnTo>
                <a:lnTo>
                  <a:pt x="33" y="81"/>
                </a:lnTo>
                <a:lnTo>
                  <a:pt x="29" y="90"/>
                </a:lnTo>
                <a:lnTo>
                  <a:pt x="25" y="99"/>
                </a:lnTo>
                <a:lnTo>
                  <a:pt x="21" y="109"/>
                </a:lnTo>
                <a:lnTo>
                  <a:pt x="17" y="119"/>
                </a:lnTo>
                <a:lnTo>
                  <a:pt x="14" y="129"/>
                </a:lnTo>
                <a:lnTo>
                  <a:pt x="11" y="139"/>
                </a:lnTo>
                <a:lnTo>
                  <a:pt x="9" y="150"/>
                </a:lnTo>
                <a:lnTo>
                  <a:pt x="6" y="161"/>
                </a:lnTo>
                <a:lnTo>
                  <a:pt x="4" y="172"/>
                </a:lnTo>
                <a:lnTo>
                  <a:pt x="3" y="183"/>
                </a:lnTo>
                <a:lnTo>
                  <a:pt x="2" y="194"/>
                </a:lnTo>
                <a:lnTo>
                  <a:pt x="1" y="205"/>
                </a:lnTo>
                <a:lnTo>
                  <a:pt x="0" y="217"/>
                </a:lnTo>
                <a:lnTo>
                  <a:pt x="0" y="2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5120" y="2120760"/>
            <a:ext cx="102960" cy="8280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0" y="2"/>
                </a:moveTo>
                <a:lnTo>
                  <a:pt x="0" y="13"/>
                </a:lnTo>
                <a:lnTo>
                  <a:pt x="1" y="25"/>
                </a:lnTo>
                <a:lnTo>
                  <a:pt x="2" y="36"/>
                </a:lnTo>
                <a:lnTo>
                  <a:pt x="3" y="47"/>
                </a:lnTo>
                <a:lnTo>
                  <a:pt x="4" y="58"/>
                </a:lnTo>
                <a:lnTo>
                  <a:pt x="6" y="69"/>
                </a:lnTo>
                <a:lnTo>
                  <a:pt x="9" y="80"/>
                </a:lnTo>
                <a:lnTo>
                  <a:pt x="11" y="91"/>
                </a:lnTo>
                <a:lnTo>
                  <a:pt x="14" y="101"/>
                </a:lnTo>
                <a:lnTo>
                  <a:pt x="17" y="111"/>
                </a:lnTo>
                <a:lnTo>
                  <a:pt x="21" y="121"/>
                </a:lnTo>
                <a:lnTo>
                  <a:pt x="25" y="131"/>
                </a:lnTo>
                <a:lnTo>
                  <a:pt x="29" y="140"/>
                </a:lnTo>
                <a:lnTo>
                  <a:pt x="33" y="149"/>
                </a:lnTo>
                <a:lnTo>
                  <a:pt x="38" y="157"/>
                </a:lnTo>
                <a:lnTo>
                  <a:pt x="43" y="166"/>
                </a:lnTo>
                <a:lnTo>
                  <a:pt x="48" y="173"/>
                </a:lnTo>
                <a:lnTo>
                  <a:pt x="54" y="181"/>
                </a:lnTo>
                <a:lnTo>
                  <a:pt x="59" y="188"/>
                </a:lnTo>
                <a:lnTo>
                  <a:pt x="65" y="194"/>
                </a:lnTo>
                <a:lnTo>
                  <a:pt x="71" y="200"/>
                </a:lnTo>
                <a:lnTo>
                  <a:pt x="78" y="205"/>
                </a:lnTo>
                <a:lnTo>
                  <a:pt x="84" y="210"/>
                </a:lnTo>
                <a:lnTo>
                  <a:pt x="91" y="215"/>
                </a:lnTo>
                <a:lnTo>
                  <a:pt x="97" y="218"/>
                </a:lnTo>
                <a:lnTo>
                  <a:pt x="104" y="222"/>
                </a:lnTo>
                <a:lnTo>
                  <a:pt x="111" y="225"/>
                </a:lnTo>
                <a:lnTo>
                  <a:pt x="118" y="227"/>
                </a:lnTo>
                <a:lnTo>
                  <a:pt x="125" y="228"/>
                </a:lnTo>
                <a:lnTo>
                  <a:pt x="132" y="229"/>
                </a:lnTo>
                <a:lnTo>
                  <a:pt x="139" y="230"/>
                </a:lnTo>
                <a:lnTo>
                  <a:pt x="146" y="230"/>
                </a:lnTo>
                <a:lnTo>
                  <a:pt x="153" y="229"/>
                </a:lnTo>
                <a:lnTo>
                  <a:pt x="160" y="228"/>
                </a:lnTo>
                <a:lnTo>
                  <a:pt x="167" y="226"/>
                </a:lnTo>
                <a:lnTo>
                  <a:pt x="174" y="224"/>
                </a:lnTo>
                <a:lnTo>
                  <a:pt x="181" y="221"/>
                </a:lnTo>
                <a:lnTo>
                  <a:pt x="188" y="218"/>
                </a:lnTo>
                <a:lnTo>
                  <a:pt x="195" y="214"/>
                </a:lnTo>
                <a:lnTo>
                  <a:pt x="201" y="209"/>
                </a:lnTo>
                <a:lnTo>
                  <a:pt x="208" y="204"/>
                </a:lnTo>
                <a:lnTo>
                  <a:pt x="214" y="199"/>
                </a:lnTo>
                <a:lnTo>
                  <a:pt x="220" y="193"/>
                </a:lnTo>
                <a:lnTo>
                  <a:pt x="226" y="186"/>
                </a:lnTo>
                <a:lnTo>
                  <a:pt x="231" y="179"/>
                </a:lnTo>
                <a:lnTo>
                  <a:pt x="237" y="172"/>
                </a:lnTo>
                <a:lnTo>
                  <a:pt x="242" y="164"/>
                </a:lnTo>
                <a:lnTo>
                  <a:pt x="247" y="156"/>
                </a:lnTo>
                <a:lnTo>
                  <a:pt x="251" y="147"/>
                </a:lnTo>
                <a:lnTo>
                  <a:pt x="256" y="138"/>
                </a:lnTo>
                <a:lnTo>
                  <a:pt x="260" y="129"/>
                </a:lnTo>
                <a:lnTo>
                  <a:pt x="264" y="119"/>
                </a:lnTo>
                <a:lnTo>
                  <a:pt x="267" y="109"/>
                </a:lnTo>
                <a:lnTo>
                  <a:pt x="270" y="99"/>
                </a:lnTo>
                <a:lnTo>
                  <a:pt x="273" y="89"/>
                </a:lnTo>
                <a:lnTo>
                  <a:pt x="276" y="78"/>
                </a:lnTo>
                <a:lnTo>
                  <a:pt x="278" y="67"/>
                </a:lnTo>
                <a:lnTo>
                  <a:pt x="280" y="56"/>
                </a:lnTo>
                <a:lnTo>
                  <a:pt x="281" y="45"/>
                </a:lnTo>
                <a:lnTo>
                  <a:pt x="283" y="34"/>
                </a:lnTo>
                <a:lnTo>
                  <a:pt x="283" y="22"/>
                </a:lnTo>
                <a:lnTo>
                  <a:pt x="284" y="11"/>
                </a:lnTo>
                <a:lnTo>
                  <a:pt x="2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8920" y="22320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30520" y="2862360"/>
            <a:ext cx="3841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3063960"/>
            <a:ext cx="1002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1469880"/>
            <a:ext cx="592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17880" y="2643120"/>
            <a:ext cx="512640" cy="439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46320" y="2708280"/>
            <a:ext cx="5684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58960" y="2862360"/>
            <a:ext cx="3589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19360" y="2143080"/>
            <a:ext cx="1133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600" spc="-1" strike="noStrike" baseline="-33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GB" sz="1600" spc="-1" strike="noStrike" baseline="-33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63560" y="2281320"/>
            <a:ext cx="465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600" spc="-1" strike="noStrike" baseline="-33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Still isn't L(f)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403200" y="5056200"/>
            <a:ext cx="38671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46240" y="3660840"/>
            <a:ext cx="98640" cy="1395360"/>
          </a:xfrm>
          <a:custGeom>
            <a:avLst/>
            <a:gdLst>
              <a:gd name="textAreaLeft" fmla="*/ 360 w 98640"/>
              <a:gd name="textAreaRight" fmla="*/ 98280 w 98640"/>
              <a:gd name="textAreaTop" fmla="*/ 360 h 1395360"/>
              <a:gd name="textAreaBottom" fmla="*/ 1395000 h 1395360"/>
            </a:gdLst>
            <a:ahLst/>
            <a:rect l="textAreaLeft" t="textAreaTop" r="textAreaRight" b="textAreaBottom"/>
            <a:pathLst>
              <a:path w="21600" h="304521">
                <a:moveTo>
                  <a:pt x="348" y="0"/>
                </a:moveTo>
                <a:arcTo wR="348" hR="348" stAng="16200000" swAng="-5400000"/>
                <a:lnTo>
                  <a:pt x="0" y="304173"/>
                </a:lnTo>
                <a:arcTo wR="348" hR="348" stAng="10800000" swAng="-5400000"/>
                <a:lnTo>
                  <a:pt x="21252" y="304521"/>
                </a:lnTo>
                <a:arcTo wR="348" hR="348" stAng="5400000" swAng="-5400000"/>
                <a:lnTo>
                  <a:pt x="21600" y="348"/>
                </a:lnTo>
                <a:arcTo wR="348" hR="348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0960" y="2489040"/>
            <a:ext cx="3100320" cy="2399040"/>
          </a:xfrm>
          <a:custGeom>
            <a:avLst/>
            <a:gdLst/>
            <a:ahLst/>
            <a:rect l="l" t="t" r="r" b="b"/>
            <a:pathLst>
              <a:path w="8613" h="6661">
                <a:moveTo>
                  <a:pt x="8612" y="6307"/>
                </a:moveTo>
                <a:cubicBezTo>
                  <a:pt x="5031" y="5721"/>
                  <a:pt x="5528" y="5593"/>
                  <a:pt x="4063" y="4663"/>
                </a:cubicBezTo>
                <a:cubicBezTo>
                  <a:pt x="2033" y="3372"/>
                  <a:pt x="870" y="0"/>
                  <a:pt x="581" y="1374"/>
                </a:cubicBezTo>
                <a:lnTo>
                  <a:pt x="0" y="66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76360" y="2517480"/>
            <a:ext cx="1440" cy="2539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160" y="5099040"/>
            <a:ext cx="59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6360" y="285768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8440" y="2152800"/>
            <a:ext cx="10857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L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25960" y="5102280"/>
            <a:ext cx="11268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set 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759040"/>
            <a:ext cx="828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7680" y="3406680"/>
            <a:ext cx="13208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95320" y="3746520"/>
            <a:ext cx="2444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141640" y="3746520"/>
            <a:ext cx="247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763720"/>
            <a:ext cx="1058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367160" y="1560600"/>
                <a:ext cx="27208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rm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Δ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rm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214880" y="3254400"/>
                <a:ext cx="730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334040" y="2389320"/>
                <a:ext cx="31971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sSubSup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B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953480" y="2419200"/>
                <a:ext cx="9014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eqAr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ra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Hz</m:t>
                                </m:r>
                              </m:den>
                            </m:f>
                          </m:e>
                        </m:eqAr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414680" y="3630600"/>
                <a:ext cx="2455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sb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arrie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431120" y="3857760"/>
                <a:ext cx="13572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ϕ</m:t>
                    </m:r>
                    <m:r>
                      <m:t xml:space="preserve">≪</m:t>
                    </m:r>
                    <m:r>
                      <m:t xml:space="preserve">1</m:t>
                    </m:r>
                    <m:r>
                      <m:t xml:space="preserve">r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054760" y="4913280"/>
                <a:ext cx="2687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B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4786200" y="4773600"/>
            <a:ext cx="3257640" cy="1376280"/>
          </a:xfrm>
          <a:prstGeom prst="rect">
            <a:avLst/>
          </a:prstGeom>
          <a:noFill/>
          <a:ln w="18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Calibrating K</a:t>
            </a:r>
            <a:r>
              <a:rPr b="1" lang="en-GB" sz="3600" spc="-1" strike="noStrike" baseline="-33000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98360" y="1343160"/>
            <a:ext cx="85392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fset Reference and Test Oscil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 it directly with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output is sinusoidal and calculate 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72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y phase mod, measure sideba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n der List, Jos F. M., PA0JOZ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xperiments with Phase-Noise Measur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QEX, Issue No. 188, January/February 1999,pp. 31-4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34920" y="2492280"/>
                <a:ext cx="1382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795240" y="4205160"/>
                <a:ext cx="70916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Δ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pk</m:t>
                                </m:r>
                              </m:sub>
                            </m:sSub>
                            <m: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ϕ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d</m:t>
                        </m:r>
                        <m:r>
                          <m:t xml:space="preserve">Δ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pk</m:t>
                        </m:r>
                      </m:sub>
                    </m:sSub>
                    <m: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p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5985000" y="1871640"/>
            <a:ext cx="1440" cy="170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86440" y="2817720"/>
            <a:ext cx="24908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53120" y="2782800"/>
            <a:ext cx="727200" cy="596880"/>
          </a:xfrm>
          <a:custGeom>
            <a:avLst/>
            <a:gdLst/>
            <a:ahLst/>
            <a:rect l="l" t="t" r="r" b="b"/>
            <a:pathLst>
              <a:path w="2021" h="1657">
                <a:moveTo>
                  <a:pt x="0" y="29"/>
                </a:moveTo>
                <a:cubicBezTo>
                  <a:pt x="198" y="932"/>
                  <a:pt x="463" y="1656"/>
                  <a:pt x="1010" y="1656"/>
                </a:cubicBezTo>
                <a:cubicBezTo>
                  <a:pt x="1557" y="1656"/>
                  <a:pt x="1819" y="913"/>
                  <a:pt x="20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81760" y="2198520"/>
            <a:ext cx="728640" cy="597240"/>
          </a:xfrm>
          <a:custGeom>
            <a:avLst/>
            <a:gdLst/>
            <a:ahLst/>
            <a:rect l="l" t="t" r="r" b="b"/>
            <a:pathLst>
              <a:path w="2022" h="1658">
                <a:moveTo>
                  <a:pt x="0" y="1626"/>
                </a:moveTo>
                <a:cubicBezTo>
                  <a:pt x="198" y="724"/>
                  <a:pt x="466" y="0"/>
                  <a:pt x="1013" y="0"/>
                </a:cubicBezTo>
                <a:cubicBezTo>
                  <a:pt x="1560" y="0"/>
                  <a:pt x="1820" y="742"/>
                  <a:pt x="2021" y="1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10400" y="2786040"/>
            <a:ext cx="727200" cy="596880"/>
          </a:xfrm>
          <a:custGeom>
            <a:avLst/>
            <a:gdLst/>
            <a:ahLst/>
            <a:rect l="l" t="t" r="r" b="b"/>
            <a:pathLst>
              <a:path w="2021" h="1657">
                <a:moveTo>
                  <a:pt x="0" y="30"/>
                </a:moveTo>
                <a:cubicBezTo>
                  <a:pt x="198" y="932"/>
                  <a:pt x="464" y="1656"/>
                  <a:pt x="1011" y="1656"/>
                </a:cubicBezTo>
                <a:cubicBezTo>
                  <a:pt x="1558" y="1656"/>
                  <a:pt x="1819" y="915"/>
                  <a:pt x="20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48760" y="2803680"/>
            <a:ext cx="576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81800" y="1871640"/>
            <a:ext cx="438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400" spc="-1" strike="noStrike" baseline="-33000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37200" y="2610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024360"/>
            <a:ext cx="112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84840" y="3094200"/>
            <a:ext cx="4176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12000" y="2452680"/>
            <a:ext cx="501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24880" y="1738440"/>
            <a:ext cx="501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400" spc="-1" strike="noStrike" baseline="-33000">
                <a:solidFill>
                  <a:srgbClr val="000000"/>
                </a:solidFill>
                <a:latin typeface="Arial"/>
              </a:rPr>
              <a:t>b p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243920" y="1987560"/>
            <a:ext cx="534960" cy="208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46360" y="3022560"/>
            <a:ext cx="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915320" y="4813200"/>
                <a:ext cx="668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0840" y="4397040"/>
            <a:ext cx="856296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71080" indent="-27108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214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B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214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Ga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60 dB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214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/Peak det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+2.5/+1.05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B    Log-peak / Peak-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9880" y="1600200"/>
                <a:ext cx="5129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ϕ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W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r>
                                      <m:t xml:space="preserve">rm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85640" y="2954160"/>
                <a:ext cx="8288640" cy="10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0</m:t>
                    </m:r>
                    <m: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eqAr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rms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r>
                                      <m:t xml:space="preserve">rms</m:t>
                                    </m:r>
                                  </m:sub>
                                </m:sSub>
                              </m:den>
                            </m:f>
                          </m:e>
                        </m:eqArr>
                      </m:e>
                    </m:d>
                    <m:r>
                      <m:t xml:space="preserve">−</m:t>
                    </m:r>
                    <m:r>
                      <m:t xml:space="preserve">10</m:t>
                    </m:r>
                    <m: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W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Correction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399960" y="2822400"/>
            <a:ext cx="8550360" cy="1293840"/>
          </a:xfrm>
          <a:prstGeom prst="rect">
            <a:avLst/>
          </a:prstGeom>
          <a:noFill/>
          <a:ln w="18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913200" y="4548240"/>
                <a:ext cx="20494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0</m:t>
                    </m:r>
                    <m: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eqAr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  <m:r>
                                      <m:t xml:space="preserve">dB</m:t>
                                    </m:r>
                                  </m:sub>
                                </m:sSub>
                              </m:den>
                            </m:f>
                          </m:e>
                        </m:eqAr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9656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Overview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“Phase Nois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ects of phase no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rect Spectrum Analyser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roduction to the KE5FX PN utility and the joys of GP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mits to direct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ase Lock Quadrature Syste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alysis of phase detector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ign of PLL phase detector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asurement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tcha'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PLL Based Phase Noise Measurement System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 rot="5400000">
            <a:off x="6154200" y="3008160"/>
            <a:ext cx="682920" cy="68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5400000">
            <a:off x="4193640" y="3008160"/>
            <a:ext cx="682920" cy="68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46880" y="3008160"/>
            <a:ext cx="1165320" cy="596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46880" y="4400640"/>
            <a:ext cx="1079640" cy="79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32560" y="3094200"/>
            <a:ext cx="398520" cy="398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346880" y="4400640"/>
            <a:ext cx="312840" cy="28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59720" y="4400640"/>
            <a:ext cx="369720" cy="284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029440" y="4400640"/>
            <a:ext cx="398520" cy="284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029440" y="4400640"/>
            <a:ext cx="1800" cy="795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402680" y="4483080"/>
            <a:ext cx="88560" cy="146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77120" y="4457880"/>
            <a:ext cx="227160" cy="56880"/>
          </a:xfrm>
          <a:custGeom>
            <a:avLst/>
            <a:gdLst/>
            <a:ahLst/>
            <a:rect l="l" t="t" r="r" b="b"/>
            <a:pathLst>
              <a:path w="629" h="159">
                <a:moveTo>
                  <a:pt x="628" y="158"/>
                </a:moveTo>
                <a:lnTo>
                  <a:pt x="628" y="150"/>
                </a:lnTo>
                <a:lnTo>
                  <a:pt x="626" y="142"/>
                </a:lnTo>
                <a:lnTo>
                  <a:pt x="624" y="134"/>
                </a:lnTo>
                <a:lnTo>
                  <a:pt x="622" y="126"/>
                </a:lnTo>
                <a:lnTo>
                  <a:pt x="618" y="119"/>
                </a:lnTo>
                <a:lnTo>
                  <a:pt x="614" y="111"/>
                </a:lnTo>
                <a:lnTo>
                  <a:pt x="609" y="103"/>
                </a:lnTo>
                <a:lnTo>
                  <a:pt x="603" y="96"/>
                </a:lnTo>
                <a:lnTo>
                  <a:pt x="596" y="89"/>
                </a:lnTo>
                <a:lnTo>
                  <a:pt x="589" y="82"/>
                </a:lnTo>
                <a:lnTo>
                  <a:pt x="581" y="75"/>
                </a:lnTo>
                <a:lnTo>
                  <a:pt x="572" y="68"/>
                </a:lnTo>
                <a:lnTo>
                  <a:pt x="563" y="62"/>
                </a:lnTo>
                <a:lnTo>
                  <a:pt x="553" y="56"/>
                </a:lnTo>
                <a:lnTo>
                  <a:pt x="542" y="50"/>
                </a:lnTo>
                <a:lnTo>
                  <a:pt x="531" y="44"/>
                </a:lnTo>
                <a:lnTo>
                  <a:pt x="520" y="39"/>
                </a:lnTo>
                <a:lnTo>
                  <a:pt x="507" y="34"/>
                </a:lnTo>
                <a:lnTo>
                  <a:pt x="495" y="29"/>
                </a:lnTo>
                <a:lnTo>
                  <a:pt x="481" y="24"/>
                </a:lnTo>
                <a:lnTo>
                  <a:pt x="468" y="20"/>
                </a:lnTo>
                <a:lnTo>
                  <a:pt x="454" y="17"/>
                </a:lnTo>
                <a:lnTo>
                  <a:pt x="439" y="13"/>
                </a:lnTo>
                <a:lnTo>
                  <a:pt x="425" y="10"/>
                </a:lnTo>
                <a:lnTo>
                  <a:pt x="410" y="8"/>
                </a:lnTo>
                <a:lnTo>
                  <a:pt x="395" y="5"/>
                </a:lnTo>
                <a:lnTo>
                  <a:pt x="379" y="4"/>
                </a:lnTo>
                <a:lnTo>
                  <a:pt x="364" y="2"/>
                </a:lnTo>
                <a:lnTo>
                  <a:pt x="348" y="1"/>
                </a:lnTo>
                <a:lnTo>
                  <a:pt x="332" y="0"/>
                </a:lnTo>
                <a:lnTo>
                  <a:pt x="316" y="0"/>
                </a:lnTo>
                <a:lnTo>
                  <a:pt x="300" y="0"/>
                </a:lnTo>
                <a:lnTo>
                  <a:pt x="285" y="1"/>
                </a:lnTo>
                <a:lnTo>
                  <a:pt x="269" y="2"/>
                </a:lnTo>
                <a:lnTo>
                  <a:pt x="253" y="3"/>
                </a:lnTo>
                <a:lnTo>
                  <a:pt x="238" y="5"/>
                </a:lnTo>
                <a:lnTo>
                  <a:pt x="223" y="7"/>
                </a:lnTo>
                <a:lnTo>
                  <a:pt x="207" y="9"/>
                </a:lnTo>
                <a:lnTo>
                  <a:pt x="193" y="12"/>
                </a:lnTo>
                <a:lnTo>
                  <a:pt x="178" y="15"/>
                </a:lnTo>
                <a:lnTo>
                  <a:pt x="164" y="19"/>
                </a:lnTo>
                <a:lnTo>
                  <a:pt x="150" y="23"/>
                </a:lnTo>
                <a:lnTo>
                  <a:pt x="137" y="27"/>
                </a:lnTo>
                <a:lnTo>
                  <a:pt x="124" y="32"/>
                </a:lnTo>
                <a:lnTo>
                  <a:pt x="112" y="37"/>
                </a:lnTo>
                <a:lnTo>
                  <a:pt x="100" y="42"/>
                </a:lnTo>
                <a:lnTo>
                  <a:pt x="88" y="47"/>
                </a:lnTo>
                <a:lnTo>
                  <a:pt x="77" y="53"/>
                </a:lnTo>
                <a:lnTo>
                  <a:pt x="67" y="59"/>
                </a:lnTo>
                <a:lnTo>
                  <a:pt x="58" y="66"/>
                </a:lnTo>
                <a:lnTo>
                  <a:pt x="49" y="72"/>
                </a:lnTo>
                <a:lnTo>
                  <a:pt x="40" y="79"/>
                </a:lnTo>
                <a:lnTo>
                  <a:pt x="33" y="86"/>
                </a:lnTo>
                <a:lnTo>
                  <a:pt x="26" y="93"/>
                </a:lnTo>
                <a:lnTo>
                  <a:pt x="20" y="100"/>
                </a:lnTo>
                <a:lnTo>
                  <a:pt x="14" y="108"/>
                </a:lnTo>
                <a:lnTo>
                  <a:pt x="10" y="115"/>
                </a:lnTo>
                <a:lnTo>
                  <a:pt x="6" y="123"/>
                </a:lnTo>
                <a:lnTo>
                  <a:pt x="3" y="131"/>
                </a:lnTo>
                <a:lnTo>
                  <a:pt x="0" y="13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39080" y="4429080"/>
            <a:ext cx="5796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2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3256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13840" y="479916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3108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31080" y="49687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31280" y="49687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08668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886880" y="32083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86680" y="32083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85040" y="332100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15320" y="3492360"/>
            <a:ext cx="57240" cy="572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115480" y="3492360"/>
            <a:ext cx="56880" cy="572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261200" y="3863880"/>
            <a:ext cx="139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electiv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48480" y="2666880"/>
            <a:ext cx="687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2960" y="1871640"/>
            <a:ext cx="13748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30 dB L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T1115/LT112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P2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M394/LM31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151080"/>
            <a:ext cx="455760" cy="397080"/>
          </a:xfrm>
          <a:prstGeom prst="roundRect">
            <a:avLst>
              <a:gd name="adj" fmla="val 3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45200" y="3201840"/>
            <a:ext cx="571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P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180120" y="1881360"/>
            <a:ext cx="72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30 dB A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M83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73400" y="3151080"/>
            <a:ext cx="473040" cy="398520"/>
          </a:xfrm>
          <a:prstGeom prst="roundRect">
            <a:avLst>
              <a:gd name="adj" fmla="val 3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95720" y="3203640"/>
            <a:ext cx="596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094200"/>
            <a:ext cx="511200" cy="5108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8640" y="2327400"/>
            <a:ext cx="511200" cy="5112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19480" y="3236760"/>
            <a:ext cx="226800" cy="227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319480" y="3234960"/>
            <a:ext cx="226800" cy="230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70120" y="2496960"/>
            <a:ext cx="114120" cy="86040"/>
          </a:xfrm>
          <a:custGeom>
            <a:avLst/>
            <a:gdLst/>
            <a:ahLst/>
            <a:rect l="l" t="t" r="r" b="b"/>
            <a:pathLst>
              <a:path w="317" h="239">
                <a:moveTo>
                  <a:pt x="316" y="238"/>
                </a:moveTo>
                <a:lnTo>
                  <a:pt x="316" y="227"/>
                </a:lnTo>
                <a:lnTo>
                  <a:pt x="315" y="215"/>
                </a:lnTo>
                <a:lnTo>
                  <a:pt x="314" y="203"/>
                </a:lnTo>
                <a:lnTo>
                  <a:pt x="313" y="191"/>
                </a:lnTo>
                <a:lnTo>
                  <a:pt x="311" y="180"/>
                </a:lnTo>
                <a:lnTo>
                  <a:pt x="309" y="169"/>
                </a:lnTo>
                <a:lnTo>
                  <a:pt x="307" y="157"/>
                </a:lnTo>
                <a:lnTo>
                  <a:pt x="304" y="146"/>
                </a:lnTo>
                <a:lnTo>
                  <a:pt x="301" y="135"/>
                </a:lnTo>
                <a:lnTo>
                  <a:pt x="297" y="125"/>
                </a:lnTo>
                <a:lnTo>
                  <a:pt x="294" y="115"/>
                </a:lnTo>
                <a:lnTo>
                  <a:pt x="289" y="105"/>
                </a:lnTo>
                <a:lnTo>
                  <a:pt x="285" y="95"/>
                </a:lnTo>
                <a:lnTo>
                  <a:pt x="280" y="86"/>
                </a:lnTo>
                <a:lnTo>
                  <a:pt x="275" y="77"/>
                </a:lnTo>
                <a:lnTo>
                  <a:pt x="269" y="68"/>
                </a:lnTo>
                <a:lnTo>
                  <a:pt x="263" y="60"/>
                </a:lnTo>
                <a:lnTo>
                  <a:pt x="257" y="53"/>
                </a:lnTo>
                <a:lnTo>
                  <a:pt x="251" y="45"/>
                </a:lnTo>
                <a:lnTo>
                  <a:pt x="245" y="39"/>
                </a:lnTo>
                <a:lnTo>
                  <a:pt x="238" y="32"/>
                </a:lnTo>
                <a:lnTo>
                  <a:pt x="231" y="27"/>
                </a:lnTo>
                <a:lnTo>
                  <a:pt x="224" y="22"/>
                </a:lnTo>
                <a:lnTo>
                  <a:pt x="217" y="17"/>
                </a:lnTo>
                <a:lnTo>
                  <a:pt x="209" y="13"/>
                </a:lnTo>
                <a:lnTo>
                  <a:pt x="202" y="9"/>
                </a:lnTo>
                <a:lnTo>
                  <a:pt x="194" y="6"/>
                </a:lnTo>
                <a:lnTo>
                  <a:pt x="186" y="4"/>
                </a:lnTo>
                <a:lnTo>
                  <a:pt x="179" y="2"/>
                </a:lnTo>
                <a:lnTo>
                  <a:pt x="171" y="1"/>
                </a:lnTo>
                <a:lnTo>
                  <a:pt x="163" y="0"/>
                </a:lnTo>
                <a:lnTo>
                  <a:pt x="155" y="0"/>
                </a:lnTo>
                <a:lnTo>
                  <a:pt x="147" y="1"/>
                </a:lnTo>
                <a:lnTo>
                  <a:pt x="139" y="2"/>
                </a:lnTo>
                <a:lnTo>
                  <a:pt x="131" y="3"/>
                </a:lnTo>
                <a:lnTo>
                  <a:pt x="124" y="6"/>
                </a:lnTo>
                <a:lnTo>
                  <a:pt x="116" y="9"/>
                </a:lnTo>
                <a:lnTo>
                  <a:pt x="108" y="12"/>
                </a:lnTo>
                <a:lnTo>
                  <a:pt x="101" y="16"/>
                </a:lnTo>
                <a:lnTo>
                  <a:pt x="94" y="21"/>
                </a:lnTo>
                <a:lnTo>
                  <a:pt x="86" y="26"/>
                </a:lnTo>
                <a:lnTo>
                  <a:pt x="79" y="31"/>
                </a:lnTo>
                <a:lnTo>
                  <a:pt x="73" y="37"/>
                </a:lnTo>
                <a:lnTo>
                  <a:pt x="66" y="44"/>
                </a:lnTo>
                <a:lnTo>
                  <a:pt x="60" y="51"/>
                </a:lnTo>
                <a:lnTo>
                  <a:pt x="54" y="59"/>
                </a:lnTo>
                <a:lnTo>
                  <a:pt x="48" y="67"/>
                </a:lnTo>
                <a:lnTo>
                  <a:pt x="42" y="75"/>
                </a:lnTo>
                <a:lnTo>
                  <a:pt x="37" y="84"/>
                </a:lnTo>
                <a:lnTo>
                  <a:pt x="32" y="93"/>
                </a:lnTo>
                <a:lnTo>
                  <a:pt x="28" y="103"/>
                </a:lnTo>
                <a:lnTo>
                  <a:pt x="23" y="113"/>
                </a:lnTo>
                <a:lnTo>
                  <a:pt x="19" y="123"/>
                </a:lnTo>
                <a:lnTo>
                  <a:pt x="16" y="133"/>
                </a:lnTo>
                <a:lnTo>
                  <a:pt x="12" y="144"/>
                </a:lnTo>
                <a:lnTo>
                  <a:pt x="10" y="155"/>
                </a:lnTo>
                <a:lnTo>
                  <a:pt x="7" y="166"/>
                </a:lnTo>
                <a:lnTo>
                  <a:pt x="5" y="178"/>
                </a:lnTo>
                <a:lnTo>
                  <a:pt x="3" y="189"/>
                </a:lnTo>
                <a:lnTo>
                  <a:pt x="2" y="201"/>
                </a:lnTo>
                <a:lnTo>
                  <a:pt x="1" y="212"/>
                </a:lnTo>
                <a:lnTo>
                  <a:pt x="0" y="224"/>
                </a:lnTo>
                <a:lnTo>
                  <a:pt x="0" y="2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84240" y="2581200"/>
            <a:ext cx="112680" cy="85680"/>
          </a:xfrm>
          <a:custGeom>
            <a:avLst/>
            <a:gdLst/>
            <a:ahLst/>
            <a:rect l="l" t="t" r="r" b="b"/>
            <a:pathLst>
              <a:path w="315" h="239">
                <a:moveTo>
                  <a:pt x="0" y="2"/>
                </a:moveTo>
                <a:lnTo>
                  <a:pt x="0" y="14"/>
                </a:lnTo>
                <a:lnTo>
                  <a:pt x="1" y="26"/>
                </a:lnTo>
                <a:lnTo>
                  <a:pt x="2" y="37"/>
                </a:lnTo>
                <a:lnTo>
                  <a:pt x="3" y="49"/>
                </a:lnTo>
                <a:lnTo>
                  <a:pt x="5" y="60"/>
                </a:lnTo>
                <a:lnTo>
                  <a:pt x="7" y="72"/>
                </a:lnTo>
                <a:lnTo>
                  <a:pt x="10" y="83"/>
                </a:lnTo>
                <a:lnTo>
                  <a:pt x="12" y="94"/>
                </a:lnTo>
                <a:lnTo>
                  <a:pt x="16" y="105"/>
                </a:lnTo>
                <a:lnTo>
                  <a:pt x="19" y="115"/>
                </a:lnTo>
                <a:lnTo>
                  <a:pt x="23" y="125"/>
                </a:lnTo>
                <a:lnTo>
                  <a:pt x="27" y="135"/>
                </a:lnTo>
                <a:lnTo>
                  <a:pt x="32" y="145"/>
                </a:lnTo>
                <a:lnTo>
                  <a:pt x="37" y="154"/>
                </a:lnTo>
                <a:lnTo>
                  <a:pt x="42" y="163"/>
                </a:lnTo>
                <a:lnTo>
                  <a:pt x="48" y="171"/>
                </a:lnTo>
                <a:lnTo>
                  <a:pt x="53" y="179"/>
                </a:lnTo>
                <a:lnTo>
                  <a:pt x="59" y="187"/>
                </a:lnTo>
                <a:lnTo>
                  <a:pt x="66" y="194"/>
                </a:lnTo>
                <a:lnTo>
                  <a:pt x="72" y="201"/>
                </a:lnTo>
                <a:lnTo>
                  <a:pt x="79" y="207"/>
                </a:lnTo>
                <a:lnTo>
                  <a:pt x="86" y="212"/>
                </a:lnTo>
                <a:lnTo>
                  <a:pt x="93" y="217"/>
                </a:lnTo>
                <a:lnTo>
                  <a:pt x="100" y="222"/>
                </a:lnTo>
                <a:lnTo>
                  <a:pt x="108" y="226"/>
                </a:lnTo>
                <a:lnTo>
                  <a:pt x="115" y="229"/>
                </a:lnTo>
                <a:lnTo>
                  <a:pt x="123" y="232"/>
                </a:lnTo>
                <a:lnTo>
                  <a:pt x="130" y="235"/>
                </a:lnTo>
                <a:lnTo>
                  <a:pt x="138" y="236"/>
                </a:lnTo>
                <a:lnTo>
                  <a:pt x="146" y="237"/>
                </a:lnTo>
                <a:lnTo>
                  <a:pt x="154" y="238"/>
                </a:lnTo>
                <a:lnTo>
                  <a:pt x="162" y="238"/>
                </a:lnTo>
                <a:lnTo>
                  <a:pt x="170" y="237"/>
                </a:lnTo>
                <a:lnTo>
                  <a:pt x="177" y="236"/>
                </a:lnTo>
                <a:lnTo>
                  <a:pt x="185" y="234"/>
                </a:lnTo>
                <a:lnTo>
                  <a:pt x="193" y="232"/>
                </a:lnTo>
                <a:lnTo>
                  <a:pt x="200" y="229"/>
                </a:lnTo>
                <a:lnTo>
                  <a:pt x="208" y="225"/>
                </a:lnTo>
                <a:lnTo>
                  <a:pt x="215" y="221"/>
                </a:lnTo>
                <a:lnTo>
                  <a:pt x="222" y="216"/>
                </a:lnTo>
                <a:lnTo>
                  <a:pt x="230" y="211"/>
                </a:lnTo>
                <a:lnTo>
                  <a:pt x="236" y="206"/>
                </a:lnTo>
                <a:lnTo>
                  <a:pt x="243" y="199"/>
                </a:lnTo>
                <a:lnTo>
                  <a:pt x="250" y="193"/>
                </a:lnTo>
                <a:lnTo>
                  <a:pt x="256" y="185"/>
                </a:lnTo>
                <a:lnTo>
                  <a:pt x="262" y="178"/>
                </a:lnTo>
                <a:lnTo>
                  <a:pt x="267" y="170"/>
                </a:lnTo>
                <a:lnTo>
                  <a:pt x="273" y="161"/>
                </a:lnTo>
                <a:lnTo>
                  <a:pt x="278" y="152"/>
                </a:lnTo>
                <a:lnTo>
                  <a:pt x="283" y="143"/>
                </a:lnTo>
                <a:lnTo>
                  <a:pt x="287" y="133"/>
                </a:lnTo>
                <a:lnTo>
                  <a:pt x="292" y="123"/>
                </a:lnTo>
                <a:lnTo>
                  <a:pt x="296" y="113"/>
                </a:lnTo>
                <a:lnTo>
                  <a:pt x="299" y="103"/>
                </a:lnTo>
                <a:lnTo>
                  <a:pt x="302" y="92"/>
                </a:lnTo>
                <a:lnTo>
                  <a:pt x="305" y="81"/>
                </a:lnTo>
                <a:lnTo>
                  <a:pt x="307" y="69"/>
                </a:lnTo>
                <a:lnTo>
                  <a:pt x="310" y="58"/>
                </a:lnTo>
                <a:lnTo>
                  <a:pt x="311" y="47"/>
                </a:lnTo>
                <a:lnTo>
                  <a:pt x="312" y="35"/>
                </a:lnTo>
                <a:lnTo>
                  <a:pt x="313" y="23"/>
                </a:lnTo>
                <a:lnTo>
                  <a:pt x="314" y="11"/>
                </a:lnTo>
                <a:lnTo>
                  <a:pt x="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28640" y="3917880"/>
            <a:ext cx="511200" cy="5112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70120" y="4087800"/>
            <a:ext cx="114120" cy="8748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316" y="241"/>
                </a:moveTo>
                <a:lnTo>
                  <a:pt x="316" y="229"/>
                </a:lnTo>
                <a:lnTo>
                  <a:pt x="315" y="217"/>
                </a:lnTo>
                <a:lnTo>
                  <a:pt x="315" y="205"/>
                </a:lnTo>
                <a:lnTo>
                  <a:pt x="313" y="193"/>
                </a:lnTo>
                <a:lnTo>
                  <a:pt x="312" y="182"/>
                </a:lnTo>
                <a:lnTo>
                  <a:pt x="310" y="170"/>
                </a:lnTo>
                <a:lnTo>
                  <a:pt x="307" y="159"/>
                </a:lnTo>
                <a:lnTo>
                  <a:pt x="305" y="148"/>
                </a:lnTo>
                <a:lnTo>
                  <a:pt x="301" y="137"/>
                </a:lnTo>
                <a:lnTo>
                  <a:pt x="298" y="126"/>
                </a:lnTo>
                <a:lnTo>
                  <a:pt x="294" y="116"/>
                </a:lnTo>
                <a:lnTo>
                  <a:pt x="290" y="106"/>
                </a:lnTo>
                <a:lnTo>
                  <a:pt x="285" y="96"/>
                </a:lnTo>
                <a:lnTo>
                  <a:pt x="280" y="87"/>
                </a:lnTo>
                <a:lnTo>
                  <a:pt x="275" y="78"/>
                </a:lnTo>
                <a:lnTo>
                  <a:pt x="270" y="69"/>
                </a:lnTo>
                <a:lnTo>
                  <a:pt x="264" y="61"/>
                </a:lnTo>
                <a:lnTo>
                  <a:pt x="258" y="53"/>
                </a:lnTo>
                <a:lnTo>
                  <a:pt x="252" y="46"/>
                </a:lnTo>
                <a:lnTo>
                  <a:pt x="245" y="39"/>
                </a:lnTo>
                <a:lnTo>
                  <a:pt x="238" y="33"/>
                </a:lnTo>
                <a:lnTo>
                  <a:pt x="231" y="27"/>
                </a:lnTo>
                <a:lnTo>
                  <a:pt x="224" y="22"/>
                </a:lnTo>
                <a:lnTo>
                  <a:pt x="217" y="17"/>
                </a:lnTo>
                <a:lnTo>
                  <a:pt x="210" y="13"/>
                </a:lnTo>
                <a:lnTo>
                  <a:pt x="202" y="9"/>
                </a:lnTo>
                <a:lnTo>
                  <a:pt x="194" y="6"/>
                </a:lnTo>
                <a:lnTo>
                  <a:pt x="186" y="4"/>
                </a:lnTo>
                <a:lnTo>
                  <a:pt x="179" y="2"/>
                </a:lnTo>
                <a:lnTo>
                  <a:pt x="171" y="1"/>
                </a:lnTo>
                <a:lnTo>
                  <a:pt x="163" y="0"/>
                </a:lnTo>
                <a:lnTo>
                  <a:pt x="155" y="0"/>
                </a:lnTo>
                <a:lnTo>
                  <a:pt x="147" y="1"/>
                </a:lnTo>
                <a:lnTo>
                  <a:pt x="139" y="2"/>
                </a:lnTo>
                <a:lnTo>
                  <a:pt x="131" y="3"/>
                </a:lnTo>
                <a:lnTo>
                  <a:pt x="123" y="6"/>
                </a:lnTo>
                <a:lnTo>
                  <a:pt x="116" y="9"/>
                </a:lnTo>
                <a:lnTo>
                  <a:pt x="108" y="12"/>
                </a:lnTo>
                <a:lnTo>
                  <a:pt x="100" y="16"/>
                </a:lnTo>
                <a:lnTo>
                  <a:pt x="93" y="21"/>
                </a:lnTo>
                <a:lnTo>
                  <a:pt x="86" y="26"/>
                </a:lnTo>
                <a:lnTo>
                  <a:pt x="79" y="32"/>
                </a:lnTo>
                <a:lnTo>
                  <a:pt x="72" y="38"/>
                </a:lnTo>
                <a:lnTo>
                  <a:pt x="66" y="45"/>
                </a:lnTo>
                <a:lnTo>
                  <a:pt x="59" y="52"/>
                </a:lnTo>
                <a:lnTo>
                  <a:pt x="53" y="59"/>
                </a:lnTo>
                <a:lnTo>
                  <a:pt x="47" y="67"/>
                </a:lnTo>
                <a:lnTo>
                  <a:pt x="42" y="76"/>
                </a:lnTo>
                <a:lnTo>
                  <a:pt x="37" y="85"/>
                </a:lnTo>
                <a:lnTo>
                  <a:pt x="32" y="94"/>
                </a:lnTo>
                <a:lnTo>
                  <a:pt x="27" y="104"/>
                </a:lnTo>
                <a:lnTo>
                  <a:pt x="23" y="114"/>
                </a:lnTo>
                <a:lnTo>
                  <a:pt x="19" y="124"/>
                </a:lnTo>
                <a:lnTo>
                  <a:pt x="15" y="135"/>
                </a:lnTo>
                <a:lnTo>
                  <a:pt x="12" y="146"/>
                </a:lnTo>
                <a:lnTo>
                  <a:pt x="9" y="157"/>
                </a:lnTo>
                <a:lnTo>
                  <a:pt x="7" y="168"/>
                </a:lnTo>
                <a:lnTo>
                  <a:pt x="5" y="180"/>
                </a:lnTo>
                <a:lnTo>
                  <a:pt x="3" y="191"/>
                </a:lnTo>
                <a:lnTo>
                  <a:pt x="2" y="203"/>
                </a:lnTo>
                <a:lnTo>
                  <a:pt x="1" y="215"/>
                </a:lnTo>
                <a:lnTo>
                  <a:pt x="0" y="227"/>
                </a:lnTo>
                <a:lnTo>
                  <a:pt x="0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84240" y="4172040"/>
            <a:ext cx="112680" cy="87120"/>
          </a:xfrm>
          <a:custGeom>
            <a:avLst/>
            <a:gdLst/>
            <a:ahLst/>
            <a:rect l="l" t="t" r="r" b="b"/>
            <a:pathLst>
              <a:path w="315" h="242">
                <a:moveTo>
                  <a:pt x="0" y="3"/>
                </a:moveTo>
                <a:lnTo>
                  <a:pt x="0" y="15"/>
                </a:lnTo>
                <a:lnTo>
                  <a:pt x="1" y="26"/>
                </a:lnTo>
                <a:lnTo>
                  <a:pt x="2" y="38"/>
                </a:lnTo>
                <a:lnTo>
                  <a:pt x="3" y="50"/>
                </a:lnTo>
                <a:lnTo>
                  <a:pt x="5" y="61"/>
                </a:lnTo>
                <a:lnTo>
                  <a:pt x="7" y="73"/>
                </a:lnTo>
                <a:lnTo>
                  <a:pt x="9" y="84"/>
                </a:lnTo>
                <a:lnTo>
                  <a:pt x="12" y="95"/>
                </a:lnTo>
                <a:lnTo>
                  <a:pt x="15" y="106"/>
                </a:lnTo>
                <a:lnTo>
                  <a:pt x="19" y="117"/>
                </a:lnTo>
                <a:lnTo>
                  <a:pt x="23" y="127"/>
                </a:lnTo>
                <a:lnTo>
                  <a:pt x="27" y="137"/>
                </a:lnTo>
                <a:lnTo>
                  <a:pt x="31" y="147"/>
                </a:lnTo>
                <a:lnTo>
                  <a:pt x="36" y="156"/>
                </a:lnTo>
                <a:lnTo>
                  <a:pt x="42" y="165"/>
                </a:lnTo>
                <a:lnTo>
                  <a:pt x="47" y="174"/>
                </a:lnTo>
                <a:lnTo>
                  <a:pt x="53" y="182"/>
                </a:lnTo>
                <a:lnTo>
                  <a:pt x="59" y="189"/>
                </a:lnTo>
                <a:lnTo>
                  <a:pt x="65" y="197"/>
                </a:lnTo>
                <a:lnTo>
                  <a:pt x="72" y="203"/>
                </a:lnTo>
                <a:lnTo>
                  <a:pt x="79" y="209"/>
                </a:lnTo>
                <a:lnTo>
                  <a:pt x="85" y="215"/>
                </a:lnTo>
                <a:lnTo>
                  <a:pt x="93" y="220"/>
                </a:lnTo>
                <a:lnTo>
                  <a:pt x="100" y="225"/>
                </a:lnTo>
                <a:lnTo>
                  <a:pt x="107" y="229"/>
                </a:lnTo>
                <a:lnTo>
                  <a:pt x="115" y="232"/>
                </a:lnTo>
                <a:lnTo>
                  <a:pt x="123" y="235"/>
                </a:lnTo>
                <a:lnTo>
                  <a:pt x="130" y="238"/>
                </a:lnTo>
                <a:lnTo>
                  <a:pt x="138" y="239"/>
                </a:lnTo>
                <a:lnTo>
                  <a:pt x="146" y="240"/>
                </a:lnTo>
                <a:lnTo>
                  <a:pt x="154" y="241"/>
                </a:lnTo>
                <a:lnTo>
                  <a:pt x="162" y="241"/>
                </a:lnTo>
                <a:lnTo>
                  <a:pt x="170" y="240"/>
                </a:lnTo>
                <a:lnTo>
                  <a:pt x="178" y="239"/>
                </a:lnTo>
                <a:lnTo>
                  <a:pt x="185" y="237"/>
                </a:lnTo>
                <a:lnTo>
                  <a:pt x="193" y="235"/>
                </a:lnTo>
                <a:lnTo>
                  <a:pt x="201" y="232"/>
                </a:lnTo>
                <a:lnTo>
                  <a:pt x="208" y="228"/>
                </a:lnTo>
                <a:lnTo>
                  <a:pt x="216" y="224"/>
                </a:lnTo>
                <a:lnTo>
                  <a:pt x="223" y="219"/>
                </a:lnTo>
                <a:lnTo>
                  <a:pt x="230" y="214"/>
                </a:lnTo>
                <a:lnTo>
                  <a:pt x="237" y="208"/>
                </a:lnTo>
                <a:lnTo>
                  <a:pt x="244" y="202"/>
                </a:lnTo>
                <a:lnTo>
                  <a:pt x="250" y="195"/>
                </a:lnTo>
                <a:lnTo>
                  <a:pt x="256" y="188"/>
                </a:lnTo>
                <a:lnTo>
                  <a:pt x="262" y="180"/>
                </a:lnTo>
                <a:lnTo>
                  <a:pt x="268" y="172"/>
                </a:lnTo>
                <a:lnTo>
                  <a:pt x="273" y="163"/>
                </a:lnTo>
                <a:lnTo>
                  <a:pt x="279" y="154"/>
                </a:lnTo>
                <a:lnTo>
                  <a:pt x="283" y="145"/>
                </a:lnTo>
                <a:lnTo>
                  <a:pt x="288" y="135"/>
                </a:lnTo>
                <a:lnTo>
                  <a:pt x="292" y="125"/>
                </a:lnTo>
                <a:lnTo>
                  <a:pt x="296" y="115"/>
                </a:lnTo>
                <a:lnTo>
                  <a:pt x="300" y="104"/>
                </a:lnTo>
                <a:lnTo>
                  <a:pt x="303" y="93"/>
                </a:lnTo>
                <a:lnTo>
                  <a:pt x="305" y="82"/>
                </a:lnTo>
                <a:lnTo>
                  <a:pt x="308" y="71"/>
                </a:lnTo>
                <a:lnTo>
                  <a:pt x="310" y="59"/>
                </a:lnTo>
                <a:lnTo>
                  <a:pt x="311" y="47"/>
                </a:lnTo>
                <a:lnTo>
                  <a:pt x="313" y="36"/>
                </a:lnTo>
                <a:lnTo>
                  <a:pt x="313" y="24"/>
                </a:lnTo>
                <a:lnTo>
                  <a:pt x="314" y="12"/>
                </a:lnTo>
                <a:lnTo>
                  <a:pt x="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4913280"/>
            <a:ext cx="1079280" cy="568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63680" y="4938840"/>
            <a:ext cx="99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LL Lo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432160" y="3603600"/>
            <a:ext cx="1440" cy="571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2160" y="258300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982800" y="4427640"/>
            <a:ext cx="1440" cy="769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976400" y="25830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82800" y="5195880"/>
            <a:ext cx="11937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87760" y="3349800"/>
            <a:ext cx="482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54360" y="334980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09960" y="3349800"/>
            <a:ext cx="1800" cy="1847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55840" y="5195880"/>
            <a:ext cx="6541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75120" y="3349800"/>
            <a:ext cx="398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27600" y="3349800"/>
            <a:ext cx="425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35680" y="3349800"/>
            <a:ext cx="511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78600" y="4913280"/>
            <a:ext cx="3700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78600" y="3349800"/>
            <a:ext cx="1800" cy="1563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2440" y="2413080"/>
            <a:ext cx="455760" cy="34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207800" y="2583000"/>
            <a:ext cx="315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608120" y="2523960"/>
            <a:ext cx="2844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163512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66536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9236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72260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174780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77804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80504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892160" y="2581200"/>
            <a:ext cx="2880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186228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33480" y="2525760"/>
            <a:ext cx="31680" cy="114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7840" y="1873080"/>
            <a:ext cx="87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95440" y="3679920"/>
            <a:ext cx="646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4200" y="3394080"/>
            <a:ext cx="149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Os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8400" y="1751040"/>
            <a:ext cx="55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Os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54720" y="5303880"/>
            <a:ext cx="1221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P 3590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60600" y="2568600"/>
            <a:ext cx="998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inicircui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ZLM-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10960" y="4170240"/>
            <a:ext cx="406440" cy="5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57360" y="4003560"/>
            <a:ext cx="455760" cy="34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242720" y="4175280"/>
            <a:ext cx="315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643040" y="4116240"/>
            <a:ext cx="2844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67004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170028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72728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75752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78272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81296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183996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927080" y="4171680"/>
            <a:ext cx="28800" cy="60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89720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1868400" y="4118040"/>
            <a:ext cx="31680" cy="114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95440" y="2087640"/>
            <a:ext cx="646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533160" y="3200040"/>
            <a:ext cx="79246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1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Phase Noise Box Schematic</a:t>
            </a:r>
            <a:endParaRPr b="1" lang="en-US" sz="2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16765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419720"/>
            <a:ext cx="2895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11240" y="1382760"/>
            <a:ext cx="890424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hase Noise “Box”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80960" y="1312920"/>
            <a:ext cx="7846920" cy="506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Interior of Phase Noise Box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887400" y="1312920"/>
            <a:ext cx="7209000" cy="50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LL Phase Noise 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22320" y="1347840"/>
            <a:ext cx="7580160" cy="49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Fluke 6080 Phase Nois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312920" y="1382760"/>
            <a:ext cx="6411960" cy="48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HP8660/86603 Phase Nois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312920" y="1420920"/>
            <a:ext cx="6411960" cy="48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A Couple of Venerable HP8640's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073160" y="1312920"/>
            <a:ext cx="6918480" cy="49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HP8640 Phase Nois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393920" y="1301760"/>
            <a:ext cx="6667560" cy="502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82281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HP8640 – Fluke 6080 Comparison at 10 MHz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289160" y="1266840"/>
            <a:ext cx="6540480" cy="50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Ideal Signals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923760" y="2343240"/>
            <a:ext cx="1800" cy="1960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2040" y="3409920"/>
            <a:ext cx="28368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74600" y="3276360"/>
            <a:ext cx="1138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7040" y="3409920"/>
            <a:ext cx="497160" cy="520560"/>
          </a:xfrm>
          <a:custGeom>
            <a:avLst/>
            <a:gdLst/>
            <a:ahLst/>
            <a:rect l="l" t="t" r="r" b="b"/>
            <a:pathLst>
              <a:path w="1382" h="1448">
                <a:moveTo>
                  <a:pt x="0" y="26"/>
                </a:moveTo>
                <a:cubicBezTo>
                  <a:pt x="135" y="814"/>
                  <a:pt x="317" y="1447"/>
                  <a:pt x="691" y="1447"/>
                </a:cubicBezTo>
                <a:cubicBezTo>
                  <a:pt x="1065" y="1447"/>
                  <a:pt x="1244" y="799"/>
                  <a:pt x="13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2898720"/>
            <a:ext cx="496800" cy="520920"/>
          </a:xfrm>
          <a:custGeom>
            <a:avLst/>
            <a:gdLst/>
            <a:ahLst/>
            <a:rect l="l" t="t" r="r" b="b"/>
            <a:pathLst>
              <a:path w="1382" h="1448">
                <a:moveTo>
                  <a:pt x="0" y="1421"/>
                </a:moveTo>
                <a:cubicBezTo>
                  <a:pt x="135" y="632"/>
                  <a:pt x="317" y="0"/>
                  <a:pt x="691" y="0"/>
                </a:cubicBezTo>
                <a:cubicBezTo>
                  <a:pt x="1065" y="0"/>
                  <a:pt x="1244" y="648"/>
                  <a:pt x="1381" y="14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2440" y="3413160"/>
            <a:ext cx="496800" cy="520560"/>
          </a:xfrm>
          <a:custGeom>
            <a:avLst/>
            <a:gdLst/>
            <a:ahLst/>
            <a:rect l="l" t="t" r="r" b="b"/>
            <a:pathLst>
              <a:path w="1382" h="1448">
                <a:moveTo>
                  <a:pt x="0" y="26"/>
                </a:moveTo>
                <a:cubicBezTo>
                  <a:pt x="135" y="814"/>
                  <a:pt x="317" y="1447"/>
                  <a:pt x="692" y="1447"/>
                </a:cubicBezTo>
                <a:cubicBezTo>
                  <a:pt x="1067" y="1447"/>
                  <a:pt x="1244" y="799"/>
                  <a:pt x="13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0240" y="2895480"/>
            <a:ext cx="496800" cy="522360"/>
          </a:xfrm>
          <a:custGeom>
            <a:avLst/>
            <a:gdLst/>
            <a:ahLst/>
            <a:rect l="l" t="t" r="r" b="b"/>
            <a:pathLst>
              <a:path w="1382" h="1449">
                <a:moveTo>
                  <a:pt x="0" y="1421"/>
                </a:moveTo>
                <a:cubicBezTo>
                  <a:pt x="135" y="633"/>
                  <a:pt x="317" y="0"/>
                  <a:pt x="691" y="0"/>
                </a:cubicBezTo>
                <a:cubicBezTo>
                  <a:pt x="1065" y="0"/>
                  <a:pt x="1244" y="649"/>
                  <a:pt x="1381" y="1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21040" y="2897280"/>
            <a:ext cx="496800" cy="520560"/>
          </a:xfrm>
          <a:custGeom>
            <a:avLst/>
            <a:gdLst/>
            <a:ahLst/>
            <a:rect l="l" t="t" r="r" b="b"/>
            <a:pathLst>
              <a:path w="1382" h="1448">
                <a:moveTo>
                  <a:pt x="0" y="1421"/>
                </a:moveTo>
                <a:cubicBezTo>
                  <a:pt x="135" y="632"/>
                  <a:pt x="316" y="0"/>
                  <a:pt x="691" y="0"/>
                </a:cubicBezTo>
                <a:cubicBezTo>
                  <a:pt x="1066" y="0"/>
                  <a:pt x="1244" y="648"/>
                  <a:pt x="1381" y="14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8680" y="3463920"/>
            <a:ext cx="511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35520" y="2089080"/>
            <a:ext cx="1440" cy="2332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13200" y="4419720"/>
            <a:ext cx="2880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99280" y="2658960"/>
            <a:ext cx="1440" cy="1782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13480" y="4456080"/>
            <a:ext cx="852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61040" y="4487760"/>
            <a:ext cx="274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3989160" y="2958480"/>
            <a:ext cx="1360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 (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248440"/>
            <a:ext cx="199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41800" y="5227560"/>
            <a:ext cx="2754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Gotcha's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46040" y="1587240"/>
            <a:ext cx="842976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sensitive measure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ivolts/microvolts after 60 dB of 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elding and pwr supply noise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ase detector line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 measurement must be sinuso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termination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 and measurement conditions must be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Isolation between source and phas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jection locking results in artificially optimistic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d is mention shielding?  Signal generators are c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Future Work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33080" y="1308240"/>
            <a:ext cx="8534520" cy="50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k and PLL not always consistent, not always the same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ify PLL Parameters and go to 100 Hz off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ify noise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onsistent results from attempts to measure the noise fl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3438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—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se floor sometimes greater than measured phase no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ampl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T1115 not compensated for unity gain, test OP27 or LT11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BW limits response to 100 kH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more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y wife tells me to get a life, but nerd engineer and proud of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The Lab!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679320" y="1336680"/>
            <a:ext cx="7650360" cy="501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Bibliography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6360" y="1297080"/>
            <a:ext cx="854568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febo.com/time-freq/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thegleam.com/ke5fx/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(large archive of app no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wenzel.com/library1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P AN 270-2 Spectrum analyzer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P PN Seminar:  Everything you ever wanted to kno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P Notes by Dieter Scher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74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—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Art” of Phase Nois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74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—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Noise Source Design and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74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—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tion of Low Phase Noise Microwave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iam F. Egan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hase-Lock Basics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ohn Wiley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. P. Robbin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hase Noise in Sources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EE Telecom Series 9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82281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Bibliography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ntius, Bruce E., N0ADL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easurement of Signa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ource Phase Noise with Low-Cost Equi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QEX, Issue No. 188, May/June 1998,pp. 38-4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 der List, Jos F. M., PA0JOZ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periments with Phase-Noise Measur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QEX, Issue No. 188, January/February 1999,pp. 31-4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Appendix I: Phase Noise PLL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878120" y="1866960"/>
            <a:ext cx="5852880" cy="34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82281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en-GB" sz="3200" spc="-1" strike="noStrike" baseline="33000">
                <a:solidFill>
                  <a:srgbClr val="0000ff"/>
                </a:solidFill>
                <a:latin typeface="Tahoma"/>
              </a:rPr>
              <a:t>nd</a:t>
            </a: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 Order PLL w/Active Lag-Lead Filter 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09600" y="1768320"/>
                <a:ext cx="1976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00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z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2717640" y="1741320"/>
                <a:ext cx="20386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.15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62080" y="2617920"/>
                <a:ext cx="4709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00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.15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7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44440" y="3513240"/>
                <a:ext cx="7110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712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00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.2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f</m:t>
                                </m:r>
                              </m:e>
                            </m:d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4.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ad</m:t>
                        </m:r>
                      </m:num>
                      <m:den>
                        <m:r>
                          <m:t xml:space="preserve">sec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3.5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60280" y="4592520"/>
                <a:ext cx="5191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ζ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.2</m:t>
                            </m:r>
                            <m:r>
                              <m:t xml:space="preserve">μ</m:t>
                            </m:r>
                            <m:r>
                              <m:t xml:space="preserve">f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5</m:t>
                            </m:r>
                            <m:r>
                              <m:t xml:space="preserve">k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4.5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.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89080" y="5605560"/>
                <a:ext cx="53402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W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d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sSup>
                                          <m:e>
                                            <m:r>
                                              <m:t xml:space="preserve">ζ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2.3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hase Noise PLL Bode Plo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359000" y="1716120"/>
            <a:ext cx="5724360" cy="40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LL Closed Loop Respons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2092320"/>
            <a:ext cx="4645080" cy="35085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30720" y="2046240"/>
            <a:ext cx="4913280" cy="362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27120" y="5819760"/>
                <a:ext cx="4311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W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d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30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ad</m:t>
                        </m:r>
                      </m:num>
                      <m:den>
                        <m:r>
                          <m:t xml:space="preserve">sec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7.75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581200" y="1440000"/>
            <a:ext cx="3398760" cy="49291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531720" y="411120"/>
            <a:ext cx="75106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High Reverse Isolation Ampl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5257800"/>
            <a:ext cx="199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284800"/>
            <a:ext cx="2754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440" y="361800"/>
            <a:ext cx="5865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Signals with Phase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3548160"/>
            <a:ext cx="542880" cy="547560"/>
          </a:xfrm>
          <a:custGeom>
            <a:avLst/>
            <a:gdLst/>
            <a:ahLst/>
            <a:rect l="l" t="t" r="r" b="b"/>
            <a:pathLst>
              <a:path w="1506" h="1521">
                <a:moveTo>
                  <a:pt x="0" y="27"/>
                </a:moveTo>
                <a:cubicBezTo>
                  <a:pt x="147" y="855"/>
                  <a:pt x="345" y="1520"/>
                  <a:pt x="754" y="1520"/>
                </a:cubicBezTo>
                <a:cubicBezTo>
                  <a:pt x="1163" y="1520"/>
                  <a:pt x="1356" y="838"/>
                  <a:pt x="150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01800" y="3013200"/>
            <a:ext cx="542880" cy="547560"/>
          </a:xfrm>
          <a:custGeom>
            <a:avLst/>
            <a:gdLst/>
            <a:ahLst/>
            <a:rect l="l" t="t" r="r" b="b"/>
            <a:pathLst>
              <a:path w="1506" h="1520">
                <a:moveTo>
                  <a:pt x="0" y="1491"/>
                </a:moveTo>
                <a:cubicBezTo>
                  <a:pt x="146" y="663"/>
                  <a:pt x="345" y="0"/>
                  <a:pt x="753" y="0"/>
                </a:cubicBezTo>
                <a:cubicBezTo>
                  <a:pt x="1161" y="0"/>
                  <a:pt x="1356" y="680"/>
                  <a:pt x="1505" y="15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4680" y="3551400"/>
            <a:ext cx="542880" cy="547560"/>
          </a:xfrm>
          <a:custGeom>
            <a:avLst/>
            <a:gdLst/>
            <a:ahLst/>
            <a:rect l="l" t="t" r="r" b="b"/>
            <a:pathLst>
              <a:path w="1506" h="1521">
                <a:moveTo>
                  <a:pt x="0" y="28"/>
                </a:moveTo>
                <a:cubicBezTo>
                  <a:pt x="147" y="856"/>
                  <a:pt x="344" y="1520"/>
                  <a:pt x="753" y="1520"/>
                </a:cubicBezTo>
                <a:cubicBezTo>
                  <a:pt x="1162" y="1520"/>
                  <a:pt x="1355" y="839"/>
                  <a:pt x="150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7480" y="3008160"/>
            <a:ext cx="542880" cy="547920"/>
          </a:xfrm>
          <a:custGeom>
            <a:avLst/>
            <a:gdLst/>
            <a:ahLst/>
            <a:rect l="l" t="t" r="r" b="b"/>
            <a:pathLst>
              <a:path w="1506" h="1520">
                <a:moveTo>
                  <a:pt x="0" y="1491"/>
                </a:moveTo>
                <a:cubicBezTo>
                  <a:pt x="147" y="664"/>
                  <a:pt x="345" y="0"/>
                  <a:pt x="753" y="0"/>
                </a:cubicBezTo>
                <a:cubicBezTo>
                  <a:pt x="1161" y="0"/>
                  <a:pt x="1356" y="680"/>
                  <a:pt x="1505" y="15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87560" y="3009960"/>
            <a:ext cx="542880" cy="547560"/>
          </a:xfrm>
          <a:custGeom>
            <a:avLst/>
            <a:gdLst/>
            <a:ahLst/>
            <a:rect l="l" t="t" r="r" b="b"/>
            <a:pathLst>
              <a:path w="1506" h="1521">
                <a:moveTo>
                  <a:pt x="0" y="1492"/>
                </a:moveTo>
                <a:cubicBezTo>
                  <a:pt x="147" y="664"/>
                  <a:pt x="345" y="0"/>
                  <a:pt x="752" y="0"/>
                </a:cubicBezTo>
                <a:cubicBezTo>
                  <a:pt x="1159" y="0"/>
                  <a:pt x="1355" y="680"/>
                  <a:pt x="1505" y="15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3524400"/>
            <a:ext cx="517320" cy="568080"/>
          </a:xfrm>
          <a:custGeom>
            <a:avLst/>
            <a:gdLst/>
            <a:ahLst/>
            <a:rect l="l" t="t" r="r" b="b"/>
            <a:pathLst>
              <a:path w="1439" h="1579">
                <a:moveTo>
                  <a:pt x="0" y="87"/>
                </a:moveTo>
                <a:cubicBezTo>
                  <a:pt x="147" y="914"/>
                  <a:pt x="345" y="1578"/>
                  <a:pt x="754" y="1578"/>
                </a:cubicBezTo>
                <a:cubicBezTo>
                  <a:pt x="1163" y="1578"/>
                  <a:pt x="1289" y="840"/>
                  <a:pt x="143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73360" y="3009960"/>
            <a:ext cx="568080" cy="547560"/>
          </a:xfrm>
          <a:custGeom>
            <a:avLst/>
            <a:gdLst/>
            <a:ahLst/>
            <a:rect l="l" t="t" r="r" b="b"/>
            <a:pathLst>
              <a:path w="1577" h="1520">
                <a:moveTo>
                  <a:pt x="0" y="1492"/>
                </a:moveTo>
                <a:cubicBezTo>
                  <a:pt x="147" y="664"/>
                  <a:pt x="416" y="0"/>
                  <a:pt x="824" y="0"/>
                </a:cubicBezTo>
                <a:cubicBezTo>
                  <a:pt x="1232" y="0"/>
                  <a:pt x="1426" y="681"/>
                  <a:pt x="1576" y="151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1440" y="3521160"/>
            <a:ext cx="579600" cy="571320"/>
          </a:xfrm>
          <a:custGeom>
            <a:avLst/>
            <a:gdLst/>
            <a:ahLst/>
            <a:rect l="l" t="t" r="r" b="b"/>
            <a:pathLst>
              <a:path w="1610" h="1588">
                <a:moveTo>
                  <a:pt x="0" y="76"/>
                </a:moveTo>
                <a:cubicBezTo>
                  <a:pt x="147" y="904"/>
                  <a:pt x="335" y="1587"/>
                  <a:pt x="742" y="1587"/>
                </a:cubicBezTo>
                <a:cubicBezTo>
                  <a:pt x="1149" y="1587"/>
                  <a:pt x="1460" y="838"/>
                  <a:pt x="1609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17800" y="3014640"/>
            <a:ext cx="511200" cy="539640"/>
          </a:xfrm>
          <a:custGeom>
            <a:avLst/>
            <a:gdLst/>
            <a:ahLst/>
            <a:rect l="l" t="t" r="r" b="b"/>
            <a:pathLst>
              <a:path w="1422" h="1499">
                <a:moveTo>
                  <a:pt x="0" y="1442"/>
                </a:moveTo>
                <a:cubicBezTo>
                  <a:pt x="148" y="614"/>
                  <a:pt x="279" y="0"/>
                  <a:pt x="688" y="0"/>
                </a:cubicBezTo>
                <a:cubicBezTo>
                  <a:pt x="1097" y="0"/>
                  <a:pt x="1271" y="659"/>
                  <a:pt x="1421" y="149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08120" y="3552840"/>
            <a:ext cx="3052800" cy="6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79680" y="3619440"/>
            <a:ext cx="5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6320" y="2516040"/>
            <a:ext cx="1800" cy="205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0920" y="3371760"/>
            <a:ext cx="1195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7520" y="2116080"/>
            <a:ext cx="1800" cy="243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2200" y="4549680"/>
            <a:ext cx="2981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24640" y="4587840"/>
            <a:ext cx="881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3873240" y="3109320"/>
            <a:ext cx="1420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 (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3240" y="3693960"/>
            <a:ext cx="687240" cy="852480"/>
          </a:xfrm>
          <a:custGeom>
            <a:avLst/>
            <a:gdLst/>
            <a:ahLst/>
            <a:rect l="l" t="t" r="r" b="b"/>
            <a:pathLst>
              <a:path w="1909" h="2368">
                <a:moveTo>
                  <a:pt x="0" y="2367"/>
                </a:moveTo>
                <a:lnTo>
                  <a:pt x="101" y="2362"/>
                </a:lnTo>
                <a:lnTo>
                  <a:pt x="200" y="2352"/>
                </a:lnTo>
                <a:lnTo>
                  <a:pt x="300" y="2334"/>
                </a:lnTo>
                <a:lnTo>
                  <a:pt x="398" y="2311"/>
                </a:lnTo>
                <a:lnTo>
                  <a:pt x="495" y="2281"/>
                </a:lnTo>
                <a:lnTo>
                  <a:pt x="591" y="2245"/>
                </a:lnTo>
                <a:lnTo>
                  <a:pt x="685" y="2203"/>
                </a:lnTo>
                <a:lnTo>
                  <a:pt x="778" y="2155"/>
                </a:lnTo>
                <a:lnTo>
                  <a:pt x="868" y="2101"/>
                </a:lnTo>
                <a:lnTo>
                  <a:pt x="956" y="2042"/>
                </a:lnTo>
                <a:lnTo>
                  <a:pt x="1041" y="1977"/>
                </a:lnTo>
                <a:lnTo>
                  <a:pt x="1123" y="1906"/>
                </a:lnTo>
                <a:lnTo>
                  <a:pt x="1202" y="1831"/>
                </a:lnTo>
                <a:lnTo>
                  <a:pt x="1278" y="1750"/>
                </a:lnTo>
                <a:lnTo>
                  <a:pt x="1350" y="1665"/>
                </a:lnTo>
                <a:lnTo>
                  <a:pt x="1419" y="1576"/>
                </a:lnTo>
                <a:lnTo>
                  <a:pt x="1484" y="1482"/>
                </a:lnTo>
                <a:lnTo>
                  <a:pt x="1545" y="1384"/>
                </a:lnTo>
                <a:lnTo>
                  <a:pt x="1601" y="1282"/>
                </a:lnTo>
                <a:lnTo>
                  <a:pt x="1653" y="1177"/>
                </a:lnTo>
                <a:lnTo>
                  <a:pt x="1701" y="1068"/>
                </a:lnTo>
                <a:lnTo>
                  <a:pt x="1744" y="957"/>
                </a:lnTo>
                <a:lnTo>
                  <a:pt x="1782" y="843"/>
                </a:lnTo>
                <a:lnTo>
                  <a:pt x="1815" y="727"/>
                </a:lnTo>
                <a:lnTo>
                  <a:pt x="1843" y="609"/>
                </a:lnTo>
                <a:lnTo>
                  <a:pt x="1866" y="489"/>
                </a:lnTo>
                <a:lnTo>
                  <a:pt x="1885" y="368"/>
                </a:lnTo>
                <a:lnTo>
                  <a:pt x="1898" y="246"/>
                </a:lnTo>
                <a:lnTo>
                  <a:pt x="1905" y="123"/>
                </a:lnTo>
                <a:lnTo>
                  <a:pt x="19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0480" y="3719520"/>
            <a:ext cx="709920" cy="828720"/>
          </a:xfrm>
          <a:custGeom>
            <a:avLst/>
            <a:gdLst/>
            <a:ahLst/>
            <a:rect l="l" t="t" r="r" b="b"/>
            <a:pathLst>
              <a:path w="1969" h="2301">
                <a:moveTo>
                  <a:pt x="0" y="0"/>
                </a:moveTo>
                <a:lnTo>
                  <a:pt x="7" y="124"/>
                </a:lnTo>
                <a:lnTo>
                  <a:pt x="20" y="246"/>
                </a:lnTo>
                <a:lnTo>
                  <a:pt x="37" y="368"/>
                </a:lnTo>
                <a:lnTo>
                  <a:pt x="60" y="488"/>
                </a:lnTo>
                <a:lnTo>
                  <a:pt x="88" y="607"/>
                </a:lnTo>
                <a:lnTo>
                  <a:pt x="120" y="724"/>
                </a:lnTo>
                <a:lnTo>
                  <a:pt x="157" y="838"/>
                </a:lnTo>
                <a:lnTo>
                  <a:pt x="199" y="950"/>
                </a:lnTo>
                <a:lnTo>
                  <a:pt x="245" y="1060"/>
                </a:lnTo>
                <a:lnTo>
                  <a:pt x="296" y="1166"/>
                </a:lnTo>
                <a:lnTo>
                  <a:pt x="351" y="1269"/>
                </a:lnTo>
                <a:lnTo>
                  <a:pt x="410" y="1368"/>
                </a:lnTo>
                <a:lnTo>
                  <a:pt x="473" y="1464"/>
                </a:lnTo>
                <a:lnTo>
                  <a:pt x="540" y="1555"/>
                </a:lnTo>
                <a:lnTo>
                  <a:pt x="611" y="1642"/>
                </a:lnTo>
                <a:lnTo>
                  <a:pt x="685" y="1724"/>
                </a:lnTo>
                <a:lnTo>
                  <a:pt x="763" y="1802"/>
                </a:lnTo>
                <a:lnTo>
                  <a:pt x="843" y="1874"/>
                </a:lnTo>
                <a:lnTo>
                  <a:pt x="927" y="1941"/>
                </a:lnTo>
                <a:lnTo>
                  <a:pt x="1013" y="2003"/>
                </a:lnTo>
                <a:lnTo>
                  <a:pt x="1101" y="2060"/>
                </a:lnTo>
                <a:lnTo>
                  <a:pt x="1192" y="2111"/>
                </a:lnTo>
                <a:lnTo>
                  <a:pt x="1285" y="2156"/>
                </a:lnTo>
                <a:lnTo>
                  <a:pt x="1379" y="2195"/>
                </a:lnTo>
                <a:lnTo>
                  <a:pt x="1475" y="2228"/>
                </a:lnTo>
                <a:lnTo>
                  <a:pt x="1572" y="2255"/>
                </a:lnTo>
                <a:lnTo>
                  <a:pt x="1670" y="2275"/>
                </a:lnTo>
                <a:lnTo>
                  <a:pt x="1769" y="2290"/>
                </a:lnTo>
                <a:lnTo>
                  <a:pt x="1868" y="2298"/>
                </a:lnTo>
                <a:lnTo>
                  <a:pt x="1968" y="23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9320" y="2116080"/>
            <a:ext cx="1440" cy="243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32200" y="4549680"/>
            <a:ext cx="2981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65800" y="2720880"/>
            <a:ext cx="4680" cy="998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24640" y="4587840"/>
            <a:ext cx="881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873600" y="311148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 (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83240" y="3693960"/>
            <a:ext cx="687240" cy="852480"/>
          </a:xfrm>
          <a:custGeom>
            <a:avLst/>
            <a:gdLst/>
            <a:ahLst/>
            <a:rect l="l" t="t" r="r" b="b"/>
            <a:pathLst>
              <a:path w="1909" h="2368">
                <a:moveTo>
                  <a:pt x="0" y="2367"/>
                </a:moveTo>
                <a:lnTo>
                  <a:pt x="101" y="2362"/>
                </a:lnTo>
                <a:lnTo>
                  <a:pt x="200" y="2352"/>
                </a:lnTo>
                <a:lnTo>
                  <a:pt x="300" y="2334"/>
                </a:lnTo>
                <a:lnTo>
                  <a:pt x="398" y="2311"/>
                </a:lnTo>
                <a:lnTo>
                  <a:pt x="495" y="2281"/>
                </a:lnTo>
                <a:lnTo>
                  <a:pt x="591" y="2245"/>
                </a:lnTo>
                <a:lnTo>
                  <a:pt x="685" y="2203"/>
                </a:lnTo>
                <a:lnTo>
                  <a:pt x="778" y="2155"/>
                </a:lnTo>
                <a:lnTo>
                  <a:pt x="868" y="2101"/>
                </a:lnTo>
                <a:lnTo>
                  <a:pt x="956" y="2042"/>
                </a:lnTo>
                <a:lnTo>
                  <a:pt x="1041" y="1977"/>
                </a:lnTo>
                <a:lnTo>
                  <a:pt x="1123" y="1906"/>
                </a:lnTo>
                <a:lnTo>
                  <a:pt x="1202" y="1831"/>
                </a:lnTo>
                <a:lnTo>
                  <a:pt x="1278" y="1750"/>
                </a:lnTo>
                <a:lnTo>
                  <a:pt x="1350" y="1665"/>
                </a:lnTo>
                <a:lnTo>
                  <a:pt x="1419" y="1576"/>
                </a:lnTo>
                <a:lnTo>
                  <a:pt x="1484" y="1482"/>
                </a:lnTo>
                <a:lnTo>
                  <a:pt x="1545" y="1384"/>
                </a:lnTo>
                <a:lnTo>
                  <a:pt x="1601" y="1282"/>
                </a:lnTo>
                <a:lnTo>
                  <a:pt x="1653" y="1177"/>
                </a:lnTo>
                <a:lnTo>
                  <a:pt x="1701" y="1068"/>
                </a:lnTo>
                <a:lnTo>
                  <a:pt x="1744" y="957"/>
                </a:lnTo>
                <a:lnTo>
                  <a:pt x="1782" y="843"/>
                </a:lnTo>
                <a:lnTo>
                  <a:pt x="1815" y="727"/>
                </a:lnTo>
                <a:lnTo>
                  <a:pt x="1843" y="609"/>
                </a:lnTo>
                <a:lnTo>
                  <a:pt x="1866" y="489"/>
                </a:lnTo>
                <a:lnTo>
                  <a:pt x="1885" y="368"/>
                </a:lnTo>
                <a:lnTo>
                  <a:pt x="1898" y="246"/>
                </a:lnTo>
                <a:lnTo>
                  <a:pt x="1905" y="123"/>
                </a:lnTo>
                <a:lnTo>
                  <a:pt x="19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0480" y="3711600"/>
            <a:ext cx="709920" cy="836640"/>
          </a:xfrm>
          <a:custGeom>
            <a:avLst/>
            <a:gdLst/>
            <a:ahLst/>
            <a:rect l="l" t="t" r="r" b="b"/>
            <a:pathLst>
              <a:path w="1970" h="2325">
                <a:moveTo>
                  <a:pt x="0" y="0"/>
                </a:moveTo>
                <a:lnTo>
                  <a:pt x="6" y="124"/>
                </a:lnTo>
                <a:lnTo>
                  <a:pt x="18" y="247"/>
                </a:lnTo>
                <a:lnTo>
                  <a:pt x="35" y="370"/>
                </a:lnTo>
                <a:lnTo>
                  <a:pt x="57" y="491"/>
                </a:lnTo>
                <a:lnTo>
                  <a:pt x="84" y="611"/>
                </a:lnTo>
                <a:lnTo>
                  <a:pt x="115" y="729"/>
                </a:lnTo>
                <a:lnTo>
                  <a:pt x="152" y="845"/>
                </a:lnTo>
                <a:lnTo>
                  <a:pt x="193" y="958"/>
                </a:lnTo>
                <a:lnTo>
                  <a:pt x="239" y="1069"/>
                </a:lnTo>
                <a:lnTo>
                  <a:pt x="290" y="1176"/>
                </a:lnTo>
                <a:lnTo>
                  <a:pt x="345" y="1280"/>
                </a:lnTo>
                <a:lnTo>
                  <a:pt x="404" y="1381"/>
                </a:lnTo>
                <a:lnTo>
                  <a:pt x="467" y="1477"/>
                </a:lnTo>
                <a:lnTo>
                  <a:pt x="534" y="1569"/>
                </a:lnTo>
                <a:lnTo>
                  <a:pt x="605" y="1657"/>
                </a:lnTo>
                <a:lnTo>
                  <a:pt x="679" y="1741"/>
                </a:lnTo>
                <a:lnTo>
                  <a:pt x="757" y="1819"/>
                </a:lnTo>
                <a:lnTo>
                  <a:pt x="838" y="1893"/>
                </a:lnTo>
                <a:lnTo>
                  <a:pt x="922" y="1961"/>
                </a:lnTo>
                <a:lnTo>
                  <a:pt x="1008" y="2024"/>
                </a:lnTo>
                <a:lnTo>
                  <a:pt x="1097" y="2081"/>
                </a:lnTo>
                <a:lnTo>
                  <a:pt x="1188" y="2132"/>
                </a:lnTo>
                <a:lnTo>
                  <a:pt x="1281" y="2178"/>
                </a:lnTo>
                <a:lnTo>
                  <a:pt x="1376" y="2217"/>
                </a:lnTo>
                <a:lnTo>
                  <a:pt x="1473" y="2251"/>
                </a:lnTo>
                <a:lnTo>
                  <a:pt x="1570" y="2278"/>
                </a:lnTo>
                <a:lnTo>
                  <a:pt x="1669" y="2299"/>
                </a:lnTo>
                <a:lnTo>
                  <a:pt x="1769" y="2314"/>
                </a:lnTo>
                <a:lnTo>
                  <a:pt x="1869" y="2322"/>
                </a:lnTo>
                <a:lnTo>
                  <a:pt x="1969" y="23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Effect of Phase Noise on 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Receiver Dynamic Rang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5318280"/>
            <a:ext cx="4032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33840" y="2643120"/>
            <a:ext cx="1440" cy="2665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2080" y="5338800"/>
            <a:ext cx="1096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51160" y="5295960"/>
            <a:ext cx="385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1600" y="4772160"/>
            <a:ext cx="1440" cy="546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87680" y="5294160"/>
            <a:ext cx="385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2600" y="2379600"/>
            <a:ext cx="1440" cy="176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7680" y="4100400"/>
            <a:ext cx="930240" cy="1208160"/>
          </a:xfrm>
          <a:custGeom>
            <a:avLst/>
            <a:gdLst/>
            <a:ahLst/>
            <a:rect l="l" t="t" r="r" b="b"/>
            <a:pathLst>
              <a:path w="2582" h="3356">
                <a:moveTo>
                  <a:pt x="0" y="3355"/>
                </a:moveTo>
                <a:lnTo>
                  <a:pt x="135" y="3349"/>
                </a:lnTo>
                <a:lnTo>
                  <a:pt x="269" y="3333"/>
                </a:lnTo>
                <a:lnTo>
                  <a:pt x="402" y="3309"/>
                </a:lnTo>
                <a:lnTo>
                  <a:pt x="535" y="3276"/>
                </a:lnTo>
                <a:lnTo>
                  <a:pt x="666" y="3234"/>
                </a:lnTo>
                <a:lnTo>
                  <a:pt x="794" y="3183"/>
                </a:lnTo>
                <a:lnTo>
                  <a:pt x="921" y="3123"/>
                </a:lnTo>
                <a:lnTo>
                  <a:pt x="1045" y="3056"/>
                </a:lnTo>
                <a:lnTo>
                  <a:pt x="1167" y="2979"/>
                </a:lnTo>
                <a:lnTo>
                  <a:pt x="1285" y="2895"/>
                </a:lnTo>
                <a:lnTo>
                  <a:pt x="1400" y="2803"/>
                </a:lnTo>
                <a:lnTo>
                  <a:pt x="1511" y="2704"/>
                </a:lnTo>
                <a:lnTo>
                  <a:pt x="1617" y="2597"/>
                </a:lnTo>
                <a:lnTo>
                  <a:pt x="1720" y="2483"/>
                </a:lnTo>
                <a:lnTo>
                  <a:pt x="1817" y="2362"/>
                </a:lnTo>
                <a:lnTo>
                  <a:pt x="1910" y="2235"/>
                </a:lnTo>
                <a:lnTo>
                  <a:pt x="1998" y="2102"/>
                </a:lnTo>
                <a:lnTo>
                  <a:pt x="2080" y="1963"/>
                </a:lnTo>
                <a:lnTo>
                  <a:pt x="2157" y="1819"/>
                </a:lnTo>
                <a:lnTo>
                  <a:pt x="2227" y="1670"/>
                </a:lnTo>
                <a:lnTo>
                  <a:pt x="2292" y="1517"/>
                </a:lnTo>
                <a:lnTo>
                  <a:pt x="2351" y="1359"/>
                </a:lnTo>
                <a:lnTo>
                  <a:pt x="2403" y="1197"/>
                </a:lnTo>
                <a:lnTo>
                  <a:pt x="2449" y="1033"/>
                </a:lnTo>
                <a:lnTo>
                  <a:pt x="2488" y="865"/>
                </a:lnTo>
                <a:lnTo>
                  <a:pt x="2520" y="695"/>
                </a:lnTo>
                <a:lnTo>
                  <a:pt x="2546" y="523"/>
                </a:lnTo>
                <a:lnTo>
                  <a:pt x="2564" y="349"/>
                </a:lnTo>
                <a:lnTo>
                  <a:pt x="2576" y="175"/>
                </a:lnTo>
                <a:lnTo>
                  <a:pt x="25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6120" y="4114800"/>
            <a:ext cx="959040" cy="1198440"/>
          </a:xfrm>
          <a:custGeom>
            <a:avLst/>
            <a:gdLst/>
            <a:ahLst/>
            <a:rect l="l" t="t" r="r" b="b"/>
            <a:pathLst>
              <a:path w="2665" h="3329">
                <a:moveTo>
                  <a:pt x="0" y="0"/>
                </a:moveTo>
                <a:lnTo>
                  <a:pt x="9" y="177"/>
                </a:lnTo>
                <a:lnTo>
                  <a:pt x="25" y="354"/>
                </a:lnTo>
                <a:lnTo>
                  <a:pt x="48" y="530"/>
                </a:lnTo>
                <a:lnTo>
                  <a:pt x="78" y="704"/>
                </a:lnTo>
                <a:lnTo>
                  <a:pt x="114" y="875"/>
                </a:lnTo>
                <a:lnTo>
                  <a:pt x="157" y="1044"/>
                </a:lnTo>
                <a:lnTo>
                  <a:pt x="206" y="1210"/>
                </a:lnTo>
                <a:lnTo>
                  <a:pt x="262" y="1372"/>
                </a:lnTo>
                <a:lnTo>
                  <a:pt x="325" y="1530"/>
                </a:lnTo>
                <a:lnTo>
                  <a:pt x="393" y="1684"/>
                </a:lnTo>
                <a:lnTo>
                  <a:pt x="467" y="1833"/>
                </a:lnTo>
                <a:lnTo>
                  <a:pt x="547" y="1977"/>
                </a:lnTo>
                <a:lnTo>
                  <a:pt x="633" y="2115"/>
                </a:lnTo>
                <a:lnTo>
                  <a:pt x="723" y="2247"/>
                </a:lnTo>
                <a:lnTo>
                  <a:pt x="819" y="2373"/>
                </a:lnTo>
                <a:lnTo>
                  <a:pt x="920" y="2493"/>
                </a:lnTo>
                <a:lnTo>
                  <a:pt x="1025" y="2605"/>
                </a:lnTo>
                <a:lnTo>
                  <a:pt x="1134" y="2710"/>
                </a:lnTo>
                <a:lnTo>
                  <a:pt x="1247" y="2808"/>
                </a:lnTo>
                <a:lnTo>
                  <a:pt x="1364" y="2898"/>
                </a:lnTo>
                <a:lnTo>
                  <a:pt x="1485" y="2980"/>
                </a:lnTo>
                <a:lnTo>
                  <a:pt x="1608" y="3053"/>
                </a:lnTo>
                <a:lnTo>
                  <a:pt x="1734" y="3119"/>
                </a:lnTo>
                <a:lnTo>
                  <a:pt x="1862" y="3175"/>
                </a:lnTo>
                <a:lnTo>
                  <a:pt x="1993" y="3223"/>
                </a:lnTo>
                <a:lnTo>
                  <a:pt x="2125" y="3262"/>
                </a:lnTo>
                <a:lnTo>
                  <a:pt x="2259" y="3292"/>
                </a:lnTo>
                <a:lnTo>
                  <a:pt x="2393" y="3313"/>
                </a:lnTo>
                <a:lnTo>
                  <a:pt x="2528" y="3325"/>
                </a:lnTo>
                <a:lnTo>
                  <a:pt x="2664" y="3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62160" y="5318280"/>
            <a:ext cx="4856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6880" y="2995560"/>
            <a:ext cx="430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92320" y="3233880"/>
            <a:ext cx="38736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52600" y="3233880"/>
            <a:ext cx="38412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9320" y="5329080"/>
            <a:ext cx="40719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13360" y="2457360"/>
            <a:ext cx="6120" cy="159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35720" y="5369040"/>
            <a:ext cx="426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9080" y="4006800"/>
            <a:ext cx="947520" cy="1319400"/>
          </a:xfrm>
          <a:custGeom>
            <a:avLst/>
            <a:gdLst/>
            <a:ahLst/>
            <a:rect l="l" t="t" r="r" b="b"/>
            <a:pathLst>
              <a:path w="2633" h="3663">
                <a:moveTo>
                  <a:pt x="0" y="3662"/>
                </a:moveTo>
                <a:lnTo>
                  <a:pt x="137" y="3657"/>
                </a:lnTo>
                <a:lnTo>
                  <a:pt x="273" y="3642"/>
                </a:lnTo>
                <a:lnTo>
                  <a:pt x="409" y="3617"/>
                </a:lnTo>
                <a:lnTo>
                  <a:pt x="544" y="3582"/>
                </a:lnTo>
                <a:lnTo>
                  <a:pt x="677" y="3538"/>
                </a:lnTo>
                <a:lnTo>
                  <a:pt x="808" y="3483"/>
                </a:lnTo>
                <a:lnTo>
                  <a:pt x="937" y="3419"/>
                </a:lnTo>
                <a:lnTo>
                  <a:pt x="1064" y="3346"/>
                </a:lnTo>
                <a:lnTo>
                  <a:pt x="1188" y="3264"/>
                </a:lnTo>
                <a:lnTo>
                  <a:pt x="1308" y="3173"/>
                </a:lnTo>
                <a:lnTo>
                  <a:pt x="1425" y="3073"/>
                </a:lnTo>
                <a:lnTo>
                  <a:pt x="1538" y="2964"/>
                </a:lnTo>
                <a:lnTo>
                  <a:pt x="1647" y="2848"/>
                </a:lnTo>
                <a:lnTo>
                  <a:pt x="1752" y="2724"/>
                </a:lnTo>
                <a:lnTo>
                  <a:pt x="1852" y="2592"/>
                </a:lnTo>
                <a:lnTo>
                  <a:pt x="1946" y="2453"/>
                </a:lnTo>
                <a:lnTo>
                  <a:pt x="2036" y="2307"/>
                </a:lnTo>
                <a:lnTo>
                  <a:pt x="2120" y="2155"/>
                </a:lnTo>
                <a:lnTo>
                  <a:pt x="2198" y="1997"/>
                </a:lnTo>
                <a:lnTo>
                  <a:pt x="2270" y="1834"/>
                </a:lnTo>
                <a:lnTo>
                  <a:pt x="2337" y="1666"/>
                </a:lnTo>
                <a:lnTo>
                  <a:pt x="2396" y="1493"/>
                </a:lnTo>
                <a:lnTo>
                  <a:pt x="2450" y="1315"/>
                </a:lnTo>
                <a:lnTo>
                  <a:pt x="2497" y="1134"/>
                </a:lnTo>
                <a:lnTo>
                  <a:pt x="2536" y="950"/>
                </a:lnTo>
                <a:lnTo>
                  <a:pt x="2570" y="764"/>
                </a:lnTo>
                <a:lnTo>
                  <a:pt x="2596" y="575"/>
                </a:lnTo>
                <a:lnTo>
                  <a:pt x="2615" y="384"/>
                </a:lnTo>
                <a:lnTo>
                  <a:pt x="2627" y="193"/>
                </a:lnTo>
                <a:lnTo>
                  <a:pt x="2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16600" y="4019400"/>
            <a:ext cx="968400" cy="1308240"/>
          </a:xfrm>
          <a:custGeom>
            <a:avLst/>
            <a:gdLst/>
            <a:ahLst/>
            <a:rect l="l" t="t" r="r" b="b"/>
            <a:pathLst>
              <a:path w="2689" h="3633">
                <a:moveTo>
                  <a:pt x="0" y="0"/>
                </a:moveTo>
                <a:lnTo>
                  <a:pt x="9" y="194"/>
                </a:lnTo>
                <a:lnTo>
                  <a:pt x="25" y="387"/>
                </a:lnTo>
                <a:lnTo>
                  <a:pt x="48" y="579"/>
                </a:lnTo>
                <a:lnTo>
                  <a:pt x="78" y="769"/>
                </a:lnTo>
                <a:lnTo>
                  <a:pt x="115" y="956"/>
                </a:lnTo>
                <a:lnTo>
                  <a:pt x="158" y="1140"/>
                </a:lnTo>
                <a:lnTo>
                  <a:pt x="208" y="1321"/>
                </a:lnTo>
                <a:lnTo>
                  <a:pt x="265" y="1498"/>
                </a:lnTo>
                <a:lnTo>
                  <a:pt x="328" y="1670"/>
                </a:lnTo>
                <a:lnTo>
                  <a:pt x="397" y="1838"/>
                </a:lnTo>
                <a:lnTo>
                  <a:pt x="471" y="2001"/>
                </a:lnTo>
                <a:lnTo>
                  <a:pt x="552" y="2158"/>
                </a:lnTo>
                <a:lnTo>
                  <a:pt x="638" y="2309"/>
                </a:lnTo>
                <a:lnTo>
                  <a:pt x="730" y="2453"/>
                </a:lnTo>
                <a:lnTo>
                  <a:pt x="826" y="2590"/>
                </a:lnTo>
                <a:lnTo>
                  <a:pt x="928" y="2721"/>
                </a:lnTo>
                <a:lnTo>
                  <a:pt x="1034" y="2843"/>
                </a:lnTo>
                <a:lnTo>
                  <a:pt x="1144" y="2958"/>
                </a:lnTo>
                <a:lnTo>
                  <a:pt x="1259" y="3065"/>
                </a:lnTo>
                <a:lnTo>
                  <a:pt x="1377" y="3163"/>
                </a:lnTo>
                <a:lnTo>
                  <a:pt x="1498" y="3252"/>
                </a:lnTo>
                <a:lnTo>
                  <a:pt x="1623" y="3332"/>
                </a:lnTo>
                <a:lnTo>
                  <a:pt x="1750" y="3403"/>
                </a:lnTo>
                <a:lnTo>
                  <a:pt x="1879" y="3465"/>
                </a:lnTo>
                <a:lnTo>
                  <a:pt x="2011" y="3517"/>
                </a:lnTo>
                <a:lnTo>
                  <a:pt x="2144" y="3560"/>
                </a:lnTo>
                <a:lnTo>
                  <a:pt x="2279" y="3593"/>
                </a:lnTo>
                <a:lnTo>
                  <a:pt x="2415" y="3616"/>
                </a:lnTo>
                <a:lnTo>
                  <a:pt x="2551" y="3629"/>
                </a:lnTo>
                <a:lnTo>
                  <a:pt x="2688" y="3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4720" y="4754520"/>
            <a:ext cx="1440" cy="59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527880" y="4640400"/>
            <a:ext cx="31680" cy="674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91240" y="4641840"/>
            <a:ext cx="96840" cy="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687720" y="4640400"/>
            <a:ext cx="34920" cy="674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04080" y="2865600"/>
            <a:ext cx="212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signal re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IF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68680" y="2913120"/>
            <a:ext cx="15973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k des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al obs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LO 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84840" y="3784680"/>
            <a:ext cx="677880" cy="969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81400" y="3747960"/>
            <a:ext cx="390600" cy="111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38920" y="5362560"/>
            <a:ext cx="108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82281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Effect of Phase Noise on 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Digital Modulation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139840"/>
            <a:ext cx="4676760" cy="3508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495680" y="2116080"/>
            <a:ext cx="4394160" cy="35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hase Noise Spectrum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3413160"/>
            <a:ext cx="191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86280" y="5032440"/>
            <a:ext cx="4040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86280" y="2433600"/>
            <a:ext cx="1800" cy="2600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81520" y="5465880"/>
            <a:ext cx="22878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fset from carrier (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3562200" y="3530520"/>
            <a:ext cx="20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B wrt carrier (d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6080" y="5032440"/>
            <a:ext cx="3585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5480" y="5032440"/>
            <a:ext cx="4636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45240" y="5032440"/>
            <a:ext cx="569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13400" y="5032440"/>
            <a:ext cx="4636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1360" y="5032440"/>
            <a:ext cx="569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94480" y="5032440"/>
            <a:ext cx="676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4920" y="5032440"/>
            <a:ext cx="546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48200" y="2867040"/>
            <a:ext cx="828720" cy="1100160"/>
          </a:xfrm>
          <a:custGeom>
            <a:avLst/>
            <a:gdLst/>
            <a:ahLst/>
            <a:rect l="l" t="t" r="r" b="b"/>
            <a:pathLst>
              <a:path w="2300" h="3058">
                <a:moveTo>
                  <a:pt x="0" y="0"/>
                </a:moveTo>
                <a:cubicBezTo>
                  <a:pt x="678" y="1081"/>
                  <a:pt x="1238" y="2040"/>
                  <a:pt x="2299" y="30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1760" y="3902040"/>
            <a:ext cx="1559160" cy="666720"/>
          </a:xfrm>
          <a:custGeom>
            <a:avLst/>
            <a:gdLst/>
            <a:ahLst/>
            <a:rect l="l" t="t" r="r" b="b"/>
            <a:pathLst>
              <a:path w="4331" h="1852">
                <a:moveTo>
                  <a:pt x="0" y="0"/>
                </a:moveTo>
                <a:cubicBezTo>
                  <a:pt x="1148" y="1107"/>
                  <a:pt x="2742" y="1573"/>
                  <a:pt x="4330" y="18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70920" y="4568760"/>
            <a:ext cx="1304640" cy="166680"/>
          </a:xfrm>
          <a:custGeom>
            <a:avLst/>
            <a:gdLst/>
            <a:ahLst/>
            <a:rect l="l" t="t" r="r" b="b"/>
            <a:pathLst>
              <a:path w="3626" h="462">
                <a:moveTo>
                  <a:pt x="0" y="0"/>
                </a:moveTo>
                <a:cubicBezTo>
                  <a:pt x="1150" y="275"/>
                  <a:pt x="2474" y="370"/>
                  <a:pt x="3625" y="4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76800" y="4568760"/>
            <a:ext cx="795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884840" y="4784760"/>
            <a:ext cx="334800" cy="6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78640" y="4784760"/>
            <a:ext cx="352440" cy="6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207200" y="4435560"/>
            <a:ext cx="225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26160" y="4435560"/>
            <a:ext cx="222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0600" y="3881520"/>
            <a:ext cx="831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206840" y="4853160"/>
            <a:ext cx="4525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72400" y="48690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3000" y="4705200"/>
            <a:ext cx="1389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174080" y="3568680"/>
            <a:ext cx="512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53440" y="3568680"/>
            <a:ext cx="6681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18400" y="3268800"/>
            <a:ext cx="662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cv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48440" y="3273480"/>
            <a:ext cx="831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157800" y="3835440"/>
            <a:ext cx="225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03840" y="3835440"/>
            <a:ext cx="222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20" y="1638360"/>
            <a:ext cx="395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hase Noise specified as a SSB level wrt to carrier (dBc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raph shows typical spectrum and areas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trum shape can be predicted from noise processes and oscillator circuit (beyond the scope of this pres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367320" y="2230560"/>
                <a:ext cx="730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51280" y="3273480"/>
                <a:ext cx="719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28520" y="2724120"/>
                <a:ext cx="44402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ower</m:t>
                        </m:r>
                        <m:r>
                          <m:t xml:space="preserve">Densit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ne</m:t>
                            </m:r>
                            <m:r>
                              <m:t xml:space="preserve">sideband</m:t>
                            </m:r>
                          </m:e>
                        </m:d>
                      </m:num>
                      <m:den>
                        <m:r>
                          <m:t xml:space="preserve">Carrier</m:t>
                        </m:r>
                        <m:r>
                          <m:t xml:space="preserve">pow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Direct 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44440" y="1365120"/>
            <a:ext cx="49388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asure signal power P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asure sideband pwr P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Arial"/>
              </a:rPr>
              <a:t>ss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g amp w/ peak detect (+2.5 d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lcul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6760" y="4773600"/>
            <a:ext cx="2889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20720" y="2641680"/>
            <a:ext cx="1800" cy="1190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90880" y="4816440"/>
            <a:ext cx="1030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33400" y="5148360"/>
            <a:ext cx="363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345240" y="3538800"/>
            <a:ext cx="1567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 (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280" y="3781440"/>
            <a:ext cx="873000" cy="988920"/>
          </a:xfrm>
          <a:custGeom>
            <a:avLst/>
            <a:gdLst/>
            <a:ahLst/>
            <a:rect l="l" t="t" r="r" b="b"/>
            <a:pathLst>
              <a:path w="2427" h="2747">
                <a:moveTo>
                  <a:pt x="0" y="2746"/>
                </a:moveTo>
                <a:lnTo>
                  <a:pt x="127" y="2741"/>
                </a:lnTo>
                <a:lnTo>
                  <a:pt x="254" y="2728"/>
                </a:lnTo>
                <a:lnTo>
                  <a:pt x="380" y="2708"/>
                </a:lnTo>
                <a:lnTo>
                  <a:pt x="506" y="2681"/>
                </a:lnTo>
                <a:lnTo>
                  <a:pt x="629" y="2646"/>
                </a:lnTo>
                <a:lnTo>
                  <a:pt x="751" y="2605"/>
                </a:lnTo>
                <a:lnTo>
                  <a:pt x="871" y="2556"/>
                </a:lnTo>
                <a:lnTo>
                  <a:pt x="988" y="2500"/>
                </a:lnTo>
                <a:lnTo>
                  <a:pt x="1103" y="2438"/>
                </a:lnTo>
                <a:lnTo>
                  <a:pt x="1215" y="2369"/>
                </a:lnTo>
                <a:lnTo>
                  <a:pt x="1323" y="2293"/>
                </a:lnTo>
                <a:lnTo>
                  <a:pt x="1428" y="2212"/>
                </a:lnTo>
                <a:lnTo>
                  <a:pt x="1528" y="2124"/>
                </a:lnTo>
                <a:lnTo>
                  <a:pt x="1625" y="2031"/>
                </a:lnTo>
                <a:lnTo>
                  <a:pt x="1717" y="1932"/>
                </a:lnTo>
                <a:lnTo>
                  <a:pt x="1804" y="1828"/>
                </a:lnTo>
                <a:lnTo>
                  <a:pt x="1887" y="1719"/>
                </a:lnTo>
                <a:lnTo>
                  <a:pt x="1964" y="1605"/>
                </a:lnTo>
                <a:lnTo>
                  <a:pt x="2036" y="1487"/>
                </a:lnTo>
                <a:lnTo>
                  <a:pt x="2102" y="1365"/>
                </a:lnTo>
                <a:lnTo>
                  <a:pt x="2162" y="1239"/>
                </a:lnTo>
                <a:lnTo>
                  <a:pt x="2217" y="1110"/>
                </a:lnTo>
                <a:lnTo>
                  <a:pt x="2265" y="978"/>
                </a:lnTo>
                <a:lnTo>
                  <a:pt x="2308" y="843"/>
                </a:lnTo>
                <a:lnTo>
                  <a:pt x="2344" y="706"/>
                </a:lnTo>
                <a:lnTo>
                  <a:pt x="2373" y="567"/>
                </a:lnTo>
                <a:lnTo>
                  <a:pt x="2396" y="427"/>
                </a:lnTo>
                <a:lnTo>
                  <a:pt x="2413" y="285"/>
                </a:lnTo>
                <a:lnTo>
                  <a:pt x="2423" y="143"/>
                </a:lnTo>
                <a:lnTo>
                  <a:pt x="24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98640" y="4203720"/>
            <a:ext cx="85680" cy="568440"/>
          </a:xfrm>
          <a:custGeom>
            <a:avLst/>
            <a:gdLst>
              <a:gd name="textAreaLeft" fmla="*/ 360 w 85680"/>
              <a:gd name="textAreaRight" fmla="*/ 85320 w 85680"/>
              <a:gd name="textAreaTop" fmla="*/ 360 h 568440"/>
              <a:gd name="textAreaBottom" fmla="*/ 568080 h 568440"/>
            </a:gdLst>
            <a:ahLst/>
            <a:rect l="textAreaLeft" t="textAreaTop" r="textAreaRight" b="textAreaBottom"/>
            <a:pathLst>
              <a:path w="21600" h="142795">
                <a:moveTo>
                  <a:pt x="400" y="0"/>
                </a:moveTo>
                <a:arcTo wR="400" hR="400" stAng="16200000" swAng="-5400000"/>
                <a:lnTo>
                  <a:pt x="0" y="142395"/>
                </a:lnTo>
                <a:arcTo wR="400" hR="400" stAng="10800000" swAng="-5400000"/>
                <a:lnTo>
                  <a:pt x="21200" y="142795"/>
                </a:lnTo>
                <a:arcTo wR="400" hR="400" stAng="5400000" swAng="-5400000"/>
                <a:lnTo>
                  <a:pt x="21600" y="400"/>
                </a:lnTo>
                <a:arcTo wR="400" hR="4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20720" y="3809880"/>
            <a:ext cx="901800" cy="960480"/>
          </a:xfrm>
          <a:custGeom>
            <a:avLst/>
            <a:gdLst/>
            <a:ahLst/>
            <a:rect l="l" t="t" r="r" b="b"/>
            <a:pathLst>
              <a:path w="2505" h="2668">
                <a:moveTo>
                  <a:pt x="0" y="0"/>
                </a:moveTo>
                <a:lnTo>
                  <a:pt x="10" y="143"/>
                </a:lnTo>
                <a:lnTo>
                  <a:pt x="26" y="285"/>
                </a:lnTo>
                <a:lnTo>
                  <a:pt x="48" y="426"/>
                </a:lnTo>
                <a:lnTo>
                  <a:pt x="77" y="566"/>
                </a:lnTo>
                <a:lnTo>
                  <a:pt x="112" y="703"/>
                </a:lnTo>
                <a:lnTo>
                  <a:pt x="153" y="839"/>
                </a:lnTo>
                <a:lnTo>
                  <a:pt x="201" y="972"/>
                </a:lnTo>
                <a:lnTo>
                  <a:pt x="254" y="1102"/>
                </a:lnTo>
                <a:lnTo>
                  <a:pt x="313" y="1229"/>
                </a:lnTo>
                <a:lnTo>
                  <a:pt x="377" y="1352"/>
                </a:lnTo>
                <a:lnTo>
                  <a:pt x="447" y="1471"/>
                </a:lnTo>
                <a:lnTo>
                  <a:pt x="523" y="1586"/>
                </a:lnTo>
                <a:lnTo>
                  <a:pt x="603" y="1697"/>
                </a:lnTo>
                <a:lnTo>
                  <a:pt x="688" y="1803"/>
                </a:lnTo>
                <a:lnTo>
                  <a:pt x="778" y="1904"/>
                </a:lnTo>
                <a:lnTo>
                  <a:pt x="873" y="1999"/>
                </a:lnTo>
                <a:lnTo>
                  <a:pt x="971" y="2089"/>
                </a:lnTo>
                <a:lnTo>
                  <a:pt x="1074" y="2173"/>
                </a:lnTo>
                <a:lnTo>
                  <a:pt x="1180" y="2251"/>
                </a:lnTo>
                <a:lnTo>
                  <a:pt x="1289" y="2323"/>
                </a:lnTo>
                <a:lnTo>
                  <a:pt x="1402" y="2389"/>
                </a:lnTo>
                <a:lnTo>
                  <a:pt x="1517" y="2447"/>
                </a:lnTo>
                <a:lnTo>
                  <a:pt x="1635" y="2500"/>
                </a:lnTo>
                <a:lnTo>
                  <a:pt x="1755" y="2545"/>
                </a:lnTo>
                <a:lnTo>
                  <a:pt x="1877" y="2583"/>
                </a:lnTo>
                <a:lnTo>
                  <a:pt x="2001" y="2614"/>
                </a:lnTo>
                <a:lnTo>
                  <a:pt x="2125" y="2638"/>
                </a:lnTo>
                <a:lnTo>
                  <a:pt x="2251" y="2655"/>
                </a:lnTo>
                <a:lnTo>
                  <a:pt x="2377" y="2665"/>
                </a:lnTo>
                <a:lnTo>
                  <a:pt x="2504" y="26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20720" y="4927680"/>
            <a:ext cx="1800" cy="11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92160" y="4927680"/>
            <a:ext cx="1800" cy="11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0720" y="4983120"/>
            <a:ext cx="271440" cy="18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92160" y="4865760"/>
            <a:ext cx="900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fs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01800" y="4467240"/>
            <a:ext cx="301680" cy="55440"/>
          </a:xfrm>
          <a:prstGeom prst="rightArrow">
            <a:avLst>
              <a:gd name="adj1" fmla="val 50000"/>
              <a:gd name="adj2" fmla="val 13603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50960" y="2143080"/>
            <a:ext cx="4590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43000" y="3720960"/>
            <a:ext cx="900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</a:rPr>
              <a:t>ssb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240" y="1952640"/>
            <a:ext cx="4022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411880" y="4156200"/>
                <a:ext cx="1612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sb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B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817800" y="5175360"/>
            <a:ext cx="532764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automate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ohn Miles KE5F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ww.thegleam.com/ke5fx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3760" y="4338720"/>
            <a:ext cx="704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Direct Phase Noise 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nnis Sweeney</cp:lastModifiedBy>
  <cp:revision>0</cp:revision>
  <dc:subject/>
  <dc:title>No Slide Title</dc:title>
</cp:coreProperties>
</file>