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4504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6840" rIns="96840" tIns="48240" bIns="482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D0F02-6F1D-4EB3-B424-A2489267B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4145040" y="9121680"/>
            <a:ext cx="317016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A1B46-BA57-4956-A402-975E9F1E8D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74880" y="4560480"/>
            <a:ext cx="5365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A2B11-984F-4362-ABEA-5DEBC2DF3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181B-93AC-46A0-9957-71A9FA4B2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2230-95CA-4E73-99D4-DF60B9CD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62C-73B5-4B15-9FDC-460E0BEE2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C122-4400-40A6-8BE0-A68950B7F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3FF-C29E-41EC-B510-06A3FE65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A44-1AE7-455A-9C0E-52067F6D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53CE-4E65-4375-AED6-B9698B98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88CF-8417-42C2-B963-437683D25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529-46EC-4388-B235-960A2355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AD81-9FAA-470B-A5EC-3272F5EA4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C2B-DF6C-4C90-BFF4-248BEFD2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E129E-2710-44BF-8EA2-60EF6AB1A6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434304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sented At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40th Eastern VHF / UHF Conference</a:t>
            </a:r>
            <a:br>
              <a:rPr sz="3200"/>
            </a:br>
            <a:br>
              <a:rPr sz="32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y: Fred Stefanik, N1D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23880"/>
            <a:ext cx="64008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F:\Tropo Antennas\222_432\1 002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K….6 Meters through 432 were up and wor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started to think about how I may approach the lower 4 microwave b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y old 6 bands worth of gear found a new home in FN43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 looked at what I had kicking a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d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ought about how I could get on with the goals of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tting on easi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eep the set up simp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sy maintenance on the tower (I’m not getting any young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asonable Performanc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want to be able to work AA1I/R where he go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d like to work out to the ~100 mile radius or 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761760"/>
            <a:ext cx="38098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tennas….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is a portable array I only used a few tim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’ Fiberglass cross bo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mercial 13 element yagi spec’d at 13dBd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brew DL6WU 14 element yagi - 14.2dBd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1RIL 22 element looper       ~ 17.5 dBd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ve Systems 22 element looper  ~ 17.5 dBd g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move the horn antenna and now I have a place for a LN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7" descr="F:\Microwave Station Presentation\0 002.jpg"/>
          <p:cNvPicPr/>
          <p:nvPr/>
        </p:nvPicPr>
        <p:blipFill>
          <a:blip r:embed="rId1"/>
          <a:stretch/>
        </p:blipFill>
        <p:spPr>
          <a:xfrm>
            <a:off x="4502160" y="762120"/>
            <a:ext cx="464184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86868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ands = 902/3, 1296, 2304, 345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ansverters and PA’s in sh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NA on Tower for good RX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100’ piece of LDF4-50 Heliax Feed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 Loss = 2.2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Loss = 2.7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Loss = 3.8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Loss = 4.6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cent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52640" y="304560"/>
            <a:ext cx="9296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1066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witching multiple LNA’s too compl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d performance broadband L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6IW HEMT MMIC LNA from NEWS s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acted Goran and told him what I was looking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e made an LNA for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47204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tested to the following spec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903  - 24.4dB Gain - 0.31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96 - 22.7dB Gain - 0.30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304 - 17.8dB Gain - 0.48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92520" indent="-2102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456 - 14.9dB Gain - 0.56dB Noise Fig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4" descr="F:\Microwave Station Presentation\LNA.JPG"/>
          <p:cNvPicPr/>
          <p:nvPr/>
        </p:nvPicPr>
        <p:blipFill>
          <a:blip r:embed="rId1"/>
          <a:stretch/>
        </p:blipFill>
        <p:spPr>
          <a:xfrm>
            <a:off x="0" y="4565520"/>
            <a:ext cx="320040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val 4"/>
          <p:cNvSpPr/>
          <p:nvPr/>
        </p:nvSpPr>
        <p:spPr>
          <a:xfrm>
            <a:off x="3657600" y="35053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val 5"/>
          <p:cNvSpPr/>
          <p:nvPr/>
        </p:nvSpPr>
        <p:spPr>
          <a:xfrm>
            <a:off x="3657600" y="38098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Oval 6"/>
          <p:cNvSpPr/>
          <p:nvPr/>
        </p:nvSpPr>
        <p:spPr>
          <a:xfrm flipH="1">
            <a:off x="3961800" y="3505320"/>
            <a:ext cx="7596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Oval 7"/>
          <p:cNvSpPr/>
          <p:nvPr/>
        </p:nvSpPr>
        <p:spPr>
          <a:xfrm>
            <a:off x="3962520" y="3809880"/>
            <a:ext cx="7596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Oval 8"/>
          <p:cNvSpPr/>
          <p:nvPr/>
        </p:nvSpPr>
        <p:spPr>
          <a:xfrm>
            <a:off x="5943600" y="358128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9"/>
          <p:cNvSpPr/>
          <p:nvPr/>
        </p:nvSpPr>
        <p:spPr>
          <a:xfrm>
            <a:off x="6400800" y="34290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Oval 10"/>
          <p:cNvSpPr/>
          <p:nvPr/>
        </p:nvSpPr>
        <p:spPr>
          <a:xfrm>
            <a:off x="6400800" y="37339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Oval 11"/>
          <p:cNvSpPr/>
          <p:nvPr/>
        </p:nvSpPr>
        <p:spPr>
          <a:xfrm>
            <a:off x="6172200" y="3962520"/>
            <a:ext cx="76320" cy="759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Oval 12"/>
          <p:cNvSpPr/>
          <p:nvPr/>
        </p:nvSpPr>
        <p:spPr>
          <a:xfrm>
            <a:off x="6172200" y="3200400"/>
            <a:ext cx="76320" cy="763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13"/>
          <p:cNvSpPr/>
          <p:nvPr/>
        </p:nvSpPr>
        <p:spPr>
          <a:xfrm flipV="1">
            <a:off x="6019920" y="3504960"/>
            <a:ext cx="38088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14"/>
          <p:cNvSpPr/>
          <p:nvPr/>
        </p:nvSpPr>
        <p:spPr>
          <a:xfrm>
            <a:off x="4038480" y="3505320"/>
            <a:ext cx="19814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15"/>
          <p:cNvSpPr/>
          <p:nvPr/>
        </p:nvSpPr>
        <p:spPr>
          <a:xfrm rot="16056600">
            <a:off x="3657240" y="4571280"/>
            <a:ext cx="304920" cy="304920"/>
          </a:xfrm>
          <a:prstGeom prst="triangle">
            <a:avLst>
              <a:gd name="adj" fmla="val 4844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6"/>
          <p:cNvSpPr/>
          <p:nvPr/>
        </p:nvSpPr>
        <p:spPr>
          <a:xfrm>
            <a:off x="4038480" y="38098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7"/>
          <p:cNvSpPr/>
          <p:nvPr/>
        </p:nvSpPr>
        <p:spPr>
          <a:xfrm>
            <a:off x="4419720" y="3809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8"/>
          <p:cNvSpPr/>
          <p:nvPr/>
        </p:nvSpPr>
        <p:spPr>
          <a:xfrm flipH="1">
            <a:off x="39625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9"/>
          <p:cNvSpPr/>
          <p:nvPr/>
        </p:nvSpPr>
        <p:spPr>
          <a:xfrm flipH="1">
            <a:off x="3200400" y="3886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20"/>
          <p:cNvSpPr/>
          <p:nvPr/>
        </p:nvSpPr>
        <p:spPr>
          <a:xfrm>
            <a:off x="320040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21"/>
          <p:cNvSpPr/>
          <p:nvPr/>
        </p:nvSpPr>
        <p:spPr>
          <a:xfrm>
            <a:off x="320040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22"/>
          <p:cNvSpPr/>
          <p:nvPr/>
        </p:nvSpPr>
        <p:spPr>
          <a:xfrm flipH="1">
            <a:off x="2286000" y="35053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23"/>
          <p:cNvSpPr/>
          <p:nvPr/>
        </p:nvSpPr>
        <p:spPr>
          <a:xfrm>
            <a:off x="6248520" y="3276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Line 24"/>
          <p:cNvSpPr/>
          <p:nvPr/>
        </p:nvSpPr>
        <p:spPr>
          <a:xfrm>
            <a:off x="6477120" y="35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Line 25"/>
          <p:cNvSpPr/>
          <p:nvPr/>
        </p:nvSpPr>
        <p:spPr>
          <a:xfrm>
            <a:off x="6477120" y="3809880"/>
            <a:ext cx="1523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6"/>
          <p:cNvSpPr/>
          <p:nvPr/>
        </p:nvSpPr>
        <p:spPr>
          <a:xfrm>
            <a:off x="6248520" y="4038480"/>
            <a:ext cx="2209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"/>
          <p:cNvSpPr/>
          <p:nvPr/>
        </p:nvSpPr>
        <p:spPr>
          <a:xfrm>
            <a:off x="977760" y="3313080"/>
            <a:ext cx="119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DF4-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eed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28"/>
          <p:cNvSpPr/>
          <p:nvPr/>
        </p:nvSpPr>
        <p:spPr>
          <a:xfrm>
            <a:off x="3491640" y="498960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9"/>
          <p:cNvSpPr/>
          <p:nvPr/>
        </p:nvSpPr>
        <p:spPr>
          <a:xfrm>
            <a:off x="3431160" y="2438280"/>
            <a:ext cx="92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ypa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30"/>
          <p:cNvSpPr/>
          <p:nvPr/>
        </p:nvSpPr>
        <p:spPr>
          <a:xfrm>
            <a:off x="5488920" y="1828800"/>
            <a:ext cx="11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Posi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32"/>
          <p:cNvSpPr/>
          <p:nvPr/>
        </p:nvSpPr>
        <p:spPr>
          <a:xfrm rot="10908600">
            <a:off x="69336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33"/>
          <p:cNvSpPr/>
          <p:nvPr/>
        </p:nvSpPr>
        <p:spPr>
          <a:xfrm rot="10908600">
            <a:off x="73908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4"/>
          <p:cNvSpPr/>
          <p:nvPr/>
        </p:nvSpPr>
        <p:spPr>
          <a:xfrm rot="10908600">
            <a:off x="78480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35"/>
          <p:cNvSpPr/>
          <p:nvPr/>
        </p:nvSpPr>
        <p:spPr>
          <a:xfrm rot="10908600">
            <a:off x="8305200" y="2666520"/>
            <a:ext cx="228600" cy="304920"/>
          </a:xfrm>
          <a:prstGeom prst="triangle">
            <a:avLst>
              <a:gd name="adj" fmla="val 432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7086600" y="2971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7543800" y="29718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8001000" y="29718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8458200" y="29718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40"/>
          <p:cNvSpPr/>
          <p:nvPr/>
        </p:nvSpPr>
        <p:spPr>
          <a:xfrm>
            <a:off x="6787800" y="2209680"/>
            <a:ext cx="18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3  1.2    2.3   3.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3" descr="F:\Tropo Antennas\Microwave\1 004.jpg"/>
          <p:cNvPicPr/>
          <p:nvPr/>
        </p:nvPicPr>
        <p:blipFill>
          <a:blip r:embed="rId1"/>
          <a:stretch/>
        </p:blipFill>
        <p:spPr>
          <a:xfrm>
            <a:off x="1523880" y="934920"/>
            <a:ext cx="5943600" cy="57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3" descr="F:\Tropo Antennas\Microwave\1 006.jpg"/>
          <p:cNvPicPr/>
          <p:nvPr/>
        </p:nvPicPr>
        <p:blipFill>
          <a:blip r:embed="rId1"/>
          <a:stretch/>
        </p:blipFill>
        <p:spPr>
          <a:xfrm>
            <a:off x="2286000" y="990720"/>
            <a:ext cx="4767120" cy="5781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4"/>
          <p:cNvSpPr/>
          <p:nvPr/>
        </p:nvSpPr>
        <p:spPr>
          <a:xfrm>
            <a:off x="5400" y="5738760"/>
            <a:ext cx="2341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3 - 13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hcraft Commerc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46483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56 - 22 El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rective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o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6"/>
          <p:cNvSpPr/>
          <p:nvPr/>
        </p:nvSpPr>
        <p:spPr>
          <a:xfrm>
            <a:off x="3960" y="2362320"/>
            <a:ext cx="2128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96 - 14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Brew DL6WU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4680" y="1295280"/>
            <a:ext cx="1881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04 - 22 El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1RIL 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37080"/>
            <a:ext cx="63244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4327560" y="3241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5" descr="F:\Microwave Station Presentation\DSCF00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560" y="11430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LNA works gre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 has a high P-1dB and OIP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23dBm P-1d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40dBm OIP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it won’t overload….but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about the Transverte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ES THEY DO!!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4343400" y="567540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2.600 MHz Center Frequenc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dB/ Div     10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 dBm Top Referen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0" descr="F:\Microwave Station Presentation\903 Average.JPG"/>
          <p:cNvPicPr/>
          <p:nvPr/>
        </p:nvPicPr>
        <p:blipFill>
          <a:blip r:embed="rId1"/>
          <a:stretch/>
        </p:blipFill>
        <p:spPr>
          <a:xfrm>
            <a:off x="4343400" y="1517760"/>
            <a:ext cx="4800600" cy="41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837720"/>
            <a:ext cx="77724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4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that’s right 30 years ago!)(I was 23 years ol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 first tried 1296 out at my home QTH at FN32qb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00mW transvert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rrowed from WB1FV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3 element Yag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Borrowed from K1F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feet of RG8U Fee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worked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2SZ/1 @ ~ 50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1JR @ ~ 73 m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microwave bug bi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96 Gear of my own now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SB LT23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5 Element Loop Ya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0 Feet of 3/4” *OLD* CATV Aluminum Hard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 Unknown Qu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now work about 6 or 7 stations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8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560" y="990360"/>
            <a:ext cx="41907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turn on the peak hold function on the spectrum analyzer and let it run a whil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settings as bef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 are peaks at -10dBm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You can also see the result of the frequency agile signal that moves from ~902 to ~925 MHz that is -30dB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9 on my receiver = -100dB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out of band interference is S9 + 90dB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 band interference is        S9 + 70dB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ood thing the in band hops aroun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picture is 2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ooks like I need a fil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0" descr="F:\Microwave Station Presentation\903 Peak.JPG"/>
          <p:cNvPicPr/>
          <p:nvPr/>
        </p:nvPicPr>
        <p:blipFill>
          <a:blip r:embed="rId1"/>
          <a:stretch/>
        </p:blipFill>
        <p:spPr>
          <a:xfrm>
            <a:off x="4648320" y="838080"/>
            <a:ext cx="4114800" cy="3014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1" descr="F:\Microwave Station Presentation\903 Zoom.JPG"/>
          <p:cNvPicPr/>
          <p:nvPr/>
        </p:nvPicPr>
        <p:blipFill>
          <a:blip r:embed="rId2"/>
          <a:stretch/>
        </p:blipFill>
        <p:spPr>
          <a:xfrm>
            <a:off x="4648320" y="3762360"/>
            <a:ext cx="4114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e’s a picture taken with the 902 / 903 receive filter in plac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is more tolerable but still not grea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Picture 10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tom Picture 2 MHz / D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9" descr="F:\Microwave Station Presentation\903 Filter.JPG"/>
          <p:cNvPicPr/>
          <p:nvPr/>
        </p:nvPicPr>
        <p:blipFill>
          <a:blip r:embed="rId1"/>
          <a:stretch/>
        </p:blipFill>
        <p:spPr>
          <a:xfrm>
            <a:off x="4724280" y="685800"/>
            <a:ext cx="4419720" cy="32004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0" descr="F:\Microwave Station Presentation\903 Zoom Filter.JPG"/>
          <p:cNvPicPr/>
          <p:nvPr/>
        </p:nvPicPr>
        <p:blipFill>
          <a:blip r:embed="rId2"/>
          <a:stretch/>
        </p:blipFill>
        <p:spPr>
          <a:xfrm>
            <a:off x="4724280" y="3505320"/>
            <a:ext cx="441972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3" descr="F:\Microwave Station Presentation\903 Peak.JPG"/>
          <p:cNvPicPr/>
          <p:nvPr/>
        </p:nvPicPr>
        <p:blipFill>
          <a:blip r:embed="rId1"/>
          <a:stretch/>
        </p:blipFill>
        <p:spPr>
          <a:xfrm>
            <a:off x="228600" y="914400"/>
            <a:ext cx="3276720" cy="28177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F:\Microwave Station Presentation\903 Filter.JPG"/>
          <p:cNvPicPr/>
          <p:nvPr/>
        </p:nvPicPr>
        <p:blipFill>
          <a:blip r:embed="rId2"/>
          <a:stretch/>
        </p:blipFill>
        <p:spPr>
          <a:xfrm>
            <a:off x="228600" y="3886200"/>
            <a:ext cx="3314880" cy="281772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F:\Microwave Station Presentation\903 Zoom.JPG"/>
          <p:cNvPicPr/>
          <p:nvPr/>
        </p:nvPicPr>
        <p:blipFill>
          <a:blip r:embed="rId3"/>
          <a:stretch/>
        </p:blipFill>
        <p:spPr>
          <a:xfrm>
            <a:off x="5638680" y="838080"/>
            <a:ext cx="3276720" cy="27720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F:\Microwave Station Presentation\903 Zoom Filter.JPG"/>
          <p:cNvPicPr/>
          <p:nvPr/>
        </p:nvPicPr>
        <p:blipFill>
          <a:blip r:embed="rId4"/>
          <a:stretch/>
        </p:blipFill>
        <p:spPr>
          <a:xfrm>
            <a:off x="5638680" y="3762360"/>
            <a:ext cx="3353040" cy="28638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7"/>
          <p:cNvSpPr/>
          <p:nvPr/>
        </p:nvSpPr>
        <p:spPr>
          <a:xfrm>
            <a:off x="3505320" y="182880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8"/>
          <p:cNvSpPr/>
          <p:nvPr/>
        </p:nvSpPr>
        <p:spPr>
          <a:xfrm>
            <a:off x="3505320" y="487692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440" y="685800"/>
            <a:ext cx="3809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are the other ban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96 Could use a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ms to hear OK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04 Could use a fil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ems to hear OK n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56 Is clean as 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se pictures are taken 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96 MHz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04 MHz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456 MHz Cen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dBm re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dB /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 MHz / Divi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F:\Microwave Station Presentation\1296.JPG"/>
          <p:cNvPicPr/>
          <p:nvPr/>
        </p:nvPicPr>
        <p:blipFill>
          <a:blip r:embed="rId1"/>
          <a:stretch/>
        </p:blipFill>
        <p:spPr>
          <a:xfrm>
            <a:off x="5334120" y="685800"/>
            <a:ext cx="3429000" cy="2209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F:\Microwave Station Presentation\2304.JPG"/>
          <p:cNvPicPr/>
          <p:nvPr/>
        </p:nvPicPr>
        <p:blipFill>
          <a:blip r:embed="rId2"/>
          <a:stretch/>
        </p:blipFill>
        <p:spPr>
          <a:xfrm>
            <a:off x="5334120" y="2743200"/>
            <a:ext cx="3429000" cy="2133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F:\Microwave Station Presentation\3456.JPG"/>
          <p:cNvPicPr/>
          <p:nvPr/>
        </p:nvPicPr>
        <p:blipFill>
          <a:blip r:embed="rId3"/>
          <a:stretch/>
        </p:blipFill>
        <p:spPr>
          <a:xfrm>
            <a:off x="5334120" y="4795920"/>
            <a:ext cx="3429000" cy="19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Picture 3" descr="F:\Tropo Antennas\Microwave\1 008.jpg"/>
          <p:cNvPicPr/>
          <p:nvPr/>
        </p:nvPicPr>
        <p:blipFill>
          <a:blip r:embed="rId1"/>
          <a:stretch/>
        </p:blipFill>
        <p:spPr>
          <a:xfrm>
            <a:off x="838080" y="895320"/>
            <a:ext cx="77724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3" descr="F:\Tropo Antennas\Microwave\1.jpg"/>
          <p:cNvPicPr/>
          <p:nvPr/>
        </p:nvPicPr>
        <p:blipFill>
          <a:blip r:embed="rId1"/>
          <a:stretch/>
        </p:blipFill>
        <p:spPr>
          <a:xfrm>
            <a:off x="76320" y="1828800"/>
            <a:ext cx="899136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440" y="60912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crowave St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S850S -&gt;Down East Microwave 28-144 Trans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East Microwave 902/3-144 Transvert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reescale MRFE6VP8600H LDMOS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00+ Wat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East Microwave 1296-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fineon PTF141501 LDMOS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0 Watts  (I 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ve 250 watt amplifier, I just need to hook it up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F Systems 2304-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rplus MMDS amplifi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Watt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DMOS amp in the works for ~250 W  (NXP BLF2425M7L250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 East Microwave 3456-14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lifornia Microwave Amplifi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Watts (Toshiba amp in the works for ~60 W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Picture 3" descr="F:\Tropo Antennas\Microwave\1 009.jpg"/>
          <p:cNvPicPr/>
          <p:nvPr/>
        </p:nvPicPr>
        <p:blipFill>
          <a:blip r:embed="rId1"/>
          <a:stretch/>
        </p:blipFill>
        <p:spPr>
          <a:xfrm>
            <a:off x="76320" y="1143000"/>
            <a:ext cx="894384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F:\Microwave Station Presentation\300-2304-1.JPG"/>
          <p:cNvPicPr/>
          <p:nvPr/>
        </p:nvPicPr>
        <p:blipFill>
          <a:blip r:embed="rId1"/>
          <a:stretch/>
        </p:blipFill>
        <p:spPr>
          <a:xfrm>
            <a:off x="1600200" y="0"/>
            <a:ext cx="5943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F:\Microwave Station Presentation\300-2304-2.JPG"/>
          <p:cNvPicPr/>
          <p:nvPr/>
        </p:nvPicPr>
        <p:blipFill>
          <a:blip r:embed="rId1"/>
          <a:stretch/>
        </p:blipFill>
        <p:spPr>
          <a:xfrm>
            <a:off x="-976320" y="-138240"/>
            <a:ext cx="11096640" cy="713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152640" y="304920"/>
            <a:ext cx="929628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ved the LT23S to a weatherproof box up on the t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ow I had my 10 watts near the anten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lso had my receiver front end there t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saw a marked increase in overall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microwave bug bit agai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 the next few years I added more band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Transverters, etc up on the t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watts, 3dB NF,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att, 2dB NF, 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 watt, 2dB NF, Loop Yag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uff worked really good at the antenna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F:\Microwave Station Presentation\300-2304-3.JPG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120" y="533520"/>
            <a:ext cx="38862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ld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.9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35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,982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0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.9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41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472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1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1.3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8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,721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58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3.1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4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722 Watts ER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.74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8320" y="457200"/>
            <a:ext cx="449568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S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.2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,606 Watts ERP ( - 0.43 dB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4.2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.7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119 Watts ERP ( - 0.67 dB @ 15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,531 Watts ERP ( + 1.55 dB @ 25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.5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3.8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88 Watts ERP ( - 14 dB @ 8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861 Watts ERP ( + 0.94dB @ 25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75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7.5 dBd Antenna Gai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4.6 dB Feedline Lo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56 Watts ERP ( - 10.4 dB @ 8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170 Watts ERP ( - 1.68 dB @ 60W 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0.9 dB System N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0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4 January VHF SS (dead band January condi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903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 QSO’s x 11 Grid Square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’s 20,30,31,32,34,41,42,43,44, FM’s 19,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K1RZ FM19jh @ 306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Best DX N3NGE FN20bd @ 215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96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 QSO’s x 10 Grid Squa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’s 20,30,31,32,41,42,43,44, FM’s 19,2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K1RZ  FM19jh @ 306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nd Best DX N3NGE FN20bd @ 215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304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 QSO’s x 3 Grid Squar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’s 31,32, 4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AF1T FN43cd @ 86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Heard N3NGE FN20bd @ 215 Miles 539 didn’t hear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456 -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QSO’s x 1 Grid Squar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st DX K1TEO FN31jh @ 60 M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importantly I worked AA1I/R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grids on 903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,32, 41,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grids on 129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,32, 41,4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 Grids on 2304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FN31,32)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e had a problem on 23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 Grids on 3456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he had a problem on 345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440" y="9903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si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ne Feed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all Antenna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really sma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ideband LNA is the only “electronics” on the tow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available in past years…needed separate LNA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an be bypassed if “something happen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verters and Power Amplifiers are all in the sh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Power SSPA’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tinue to be come more available and or afford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 is (or can / will be) equivalent to the old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er performance can always be realized with larger antenn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81532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~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to rebuild the antennas and systems on the tow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original LT23S had di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 was time for a new 1296 system to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New Tower Mounted Systems We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- 70 Watts, 0.7dBNF, 39 element 15’ Boom Lo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- 35 Watts, 0.3dBNF, 55 element 15’ Boom Loo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- 40 Watts, 1dBNF, 76 element 12’ Boom Blowto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- 10 Watts, 1dBNF, 112 element 12’ Boom Blowtor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 feedlines on these systems were ~10’ of FSJ4-50B Superfle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also added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760 - 2 Watts DEMI Transverter, 2’ D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368 - 3 Watts, Kuhne Transverter, DL2AM amplifier, 2’ Dis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~2003 I added a DEMI 8 Watt amp to the 10GHz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uff worked grea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ime marches on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903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7.9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35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,982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05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04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1.3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58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,721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58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90512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9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8.9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41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,472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71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456 M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3.1dBd Antenna G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.74dB Feedline Lo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,722 Watts ER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.74dB System N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-152280" y="1143000"/>
            <a:ext cx="929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rformance of this gear looks lik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026" descr="F:\Microwave Station Presentation\N1DPM 002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6104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now 29 years after my first endeavor on 1296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t’s been ~ 16 years since my antenna system was last overhaul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now 52 not 2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know I’m young still, but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decided I wanted a really good system on this tower for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 Meters, 2  Meters, 222MHz, and 432MH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 I ask my friend John AA1I/R if he could help me as ground crew to do some tower work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first day we took down 903, 1296, and 2304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ter wrenching apart 16 year old hardware on these 3 systems I was sho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re next time…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eek later when he arrived he said “let me go up and give it a sho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OOOHHHHH….A younger guy to help on the towe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took down the 2 meter yagis, 3456, 5760, and 10GH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s time the “youngster” was sho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 Fresh Approach To A Multi-Band Microwave S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13 continued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fter his first time on the tower he said something lik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got me into this microwave stuff and here I am helping you take apart one of the stations I can reliably work as a rover.  Something seems wrong with tha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ll that had some influence…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 bought all his own climbing harness, etc and continued to help with the antenna system rebuil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 continued to play ground crew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3" descr="F:\Tropo Antennas\AA1I 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4T13:39:39Z</dcterms:created>
  <dc:creator>Fred</dc:creator>
  <dc:description/>
  <dc:language>en-US</dc:language>
  <cp:lastModifiedBy>paul</cp:lastModifiedBy>
  <cp:lastPrinted>2014-03-31T13:29:34Z</cp:lastPrinted>
  <dcterms:modified xsi:type="dcterms:W3CDTF">2014-03-31T13:32:02Z</dcterms:modified>
  <cp:revision>30</cp:revision>
  <dc:subject/>
  <dc:title>N1DPM Microwave System</dc:title>
</cp:coreProperties>
</file>