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51D-F5A5-4831-A7EB-D2BCA49F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B5C-D558-4C39-A64E-E7F58B9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473-D266-4243-B3B4-6DE5F06E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46F-0F39-42DD-B93F-35FA7EC5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0417-6E41-4412-B863-51BD8798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8395-ECAF-4239-A468-D4FB7C99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C994-CBBF-4771-8EF4-B75C5395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8B75-0D49-433A-95AA-4FECB85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756A-F340-4551-8BF0-A6A8A3E2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C291-AB7C-48D4-8369-18896B97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F52F-A0E9-4F30-AE67-35A4D817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9A5-6869-4D45-9BE6-6B384B1A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E2AF-27E7-4EBD-9865-D0EFB534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BC73-2457-4F8E-88D9-795B129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1235-B9C9-44F0-A1D5-952F88E7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471E-EDA6-47FC-8D43-60CA47FF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324-2A1E-47C5-95A2-EA9A322E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6CC-6A00-4100-A15E-0A023028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BA2-DF30-4F7D-A6ED-BE86F568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8B0-8F1F-4610-BF19-A018C9F7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D7C-2856-4F01-B34C-5273DF19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600-BCD9-4EDC-A64C-5799C07F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4CC-261C-47AF-A54B-D6A1A82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EE5-9498-40C8-B48B-B1DE3D1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681-2D82-4C33-90E2-98CE6D041D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232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232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2323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2323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232369"/>
                        </a:solidFill>
                        <a:ln w="9360">
                          <a:solidFill>
                            <a:srgbClr val="23236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23236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23236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2323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23236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2323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232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32369"/>
                    </a:gs>
                    <a:gs pos="100000">
                      <a:srgbClr val="4545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4203-6495-47D3-BA23-4DBD9C7225D9}" type="slidenum"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eywhatstha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6" descr="IMG_20170926_091132550_4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700" spc="-1" strike="noStrike">
                <a:solidFill>
                  <a:srgbClr val="ffff00"/>
                </a:solidFill>
                <a:latin typeface="Arial"/>
              </a:rPr>
              <a:t>Finding sites with Heywhatsthat</a:t>
            </a:r>
            <a:endParaRPr b="0" lang="en-US" sz="47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24112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Rene Barbeau 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00"/>
                </a:solidFill>
                <a:latin typeface="Verdana"/>
              </a:rPr>
              <a:t>VE2UG. 2018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w it work</a:t>
            </a: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Enter Heywhatsthat websit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Click on « New Panorama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Enter data or click on map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Get result. Click on « Visibility Cloak » and « Horizon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Zoom and survey map to find potential sites. Click site to see Path Profiler result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weak data in path profiler« Parameters »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ccff"/>
                </a:solidFill>
                <a:latin typeface="Verdana"/>
              </a:rPr>
              <a:t>http://www.heywhatsthat.com/techfaq.htm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ntering data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3" name="Picture 4" descr="Entering data panorama P11"/>
          <p:cNvPicPr/>
          <p:nvPr/>
        </p:nvPicPr>
        <p:blipFill>
          <a:blip r:embed="rId1"/>
          <a:stretch/>
        </p:blipFill>
        <p:spPr>
          <a:xfrm>
            <a:off x="900000" y="1484280"/>
            <a:ext cx="74883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ntering dat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6" name="Picture 4" descr="Entering data panorama P11A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sults -&gt; Panora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59" name="Picture 6" descr="Panorama Whiteface P12"/>
          <p:cNvPicPr/>
          <p:nvPr/>
        </p:nvPicPr>
        <p:blipFill>
          <a:blip r:embed="rId1"/>
          <a:stretch/>
        </p:blipFill>
        <p:spPr>
          <a:xfrm>
            <a:off x="250920" y="1349280"/>
            <a:ext cx="849780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Result -&gt; Visibility cloak + Horiz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2" name="Picture 7" descr="Horizon  and visibility Whiteface P13"/>
          <p:cNvPicPr/>
          <p:nvPr/>
        </p:nvPicPr>
        <p:blipFill>
          <a:blip r:embed="rId1"/>
          <a:stretch/>
        </p:blipFill>
        <p:spPr>
          <a:xfrm>
            <a:off x="250920" y="1628640"/>
            <a:ext cx="85852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Result -&gt; Visibility cloak + horizon to Trembla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5" name="Picture 4" descr="Horizon + visibility Whiteface to Tremblant P14"/>
          <p:cNvPicPr/>
          <p:nvPr/>
        </p:nvPicPr>
        <p:blipFill>
          <a:blip r:embed="rId1"/>
          <a:stretch/>
        </p:blipFill>
        <p:spPr>
          <a:xfrm>
            <a:off x="395280" y="1773360"/>
            <a:ext cx="842472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valuation with Path profil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ntering new site by clicking on ma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dit parameters Menu. 0.14 is visual refraction (see techfaq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68" name="Picture 4" descr="Entering Path Profiler"/>
          <p:cNvPicPr/>
          <p:nvPr/>
        </p:nvPicPr>
        <p:blipFill>
          <a:blip r:embed="rId1"/>
          <a:stretch/>
        </p:blipFill>
        <p:spPr>
          <a:xfrm>
            <a:off x="395280" y="3429000"/>
            <a:ext cx="82821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 with Tremblan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1" name="Picture 4" descr="Path Profiler to Tremblant P16"/>
          <p:cNvPicPr/>
          <p:nvPr/>
        </p:nvPicPr>
        <p:blipFill>
          <a:blip r:embed="rId1"/>
          <a:stretch/>
        </p:blipFill>
        <p:spPr>
          <a:xfrm>
            <a:off x="179280" y="1413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s with Lancas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4" name="Picture 4" descr="Path Profiler to Lancaster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Profiler result with St-Hil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77" name="Picture 4" descr="Path Profiler to St-Hilaire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he ne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Operating from home is difficult if not impossibl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ortable operation is more flexible technicall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 operation is a good start,  not limited to LOS (Line of Sight) in our experienc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LOS is mandatory for higher bands, except for the better stations on 24 GHz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Profiler with FN47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0" name="Picture 4" descr="Path Profiler to FN47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ite Survey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inding a site is one thing. But is it usable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f possible use Google Street View before leaving !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Do a printscreen of the Path Line, for reference in the fiel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Be prepared for the worst (trees). I hate tre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N24, LOS from Whiteface. Humm..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5" name="Picture 4" descr="Trees P21A"/>
          <p:cNvPicPr/>
          <p:nvPr/>
        </p:nvPicPr>
        <p:blipFill>
          <a:blip r:embed="rId1"/>
          <a:stretch/>
        </p:blipFill>
        <p:spPr>
          <a:xfrm>
            <a:off x="539640" y="2637000"/>
            <a:ext cx="3429000" cy="3447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Trees P21B"/>
          <p:cNvPicPr/>
          <p:nvPr/>
        </p:nvPicPr>
        <p:blipFill>
          <a:blip r:embed="rId2"/>
          <a:stretch/>
        </p:blipFill>
        <p:spPr>
          <a:xfrm>
            <a:off x="4500720" y="2637000"/>
            <a:ext cx="41432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N35 top of hill. Where do I setup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89" name="Picture 4" descr="Trees FN35"/>
          <p:cNvPicPr/>
          <p:nvPr/>
        </p:nvPicPr>
        <p:blipFill>
          <a:blip r:embed="rId1"/>
          <a:stretch/>
        </p:blipFill>
        <p:spPr>
          <a:xfrm>
            <a:off x="755640" y="2276640"/>
            <a:ext cx="7416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rees or el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ven one tree is enough..(FN47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2" name="Picture 4" descr="Tree fn47"/>
          <p:cNvPicPr/>
          <p:nvPr/>
        </p:nvPicPr>
        <p:blipFill>
          <a:blip r:embed="rId1"/>
          <a:stretch/>
        </p:blipFill>
        <p:spPr>
          <a:xfrm>
            <a:off x="1619280" y="2313000"/>
            <a:ext cx="568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Google Street View Ottaw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5" name="Picture 4" descr="Google Street View Ottawa P24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Whiteface vs Ottaw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We can use parking lines for head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98" name="Picture 6" descr="Path Line Ottawa lookout"/>
          <p:cNvPicPr/>
          <p:nvPr/>
        </p:nvPicPr>
        <p:blipFill>
          <a:blip r:embed="rId1"/>
          <a:stretch/>
        </p:blipFill>
        <p:spPr>
          <a:xfrm>
            <a:off x="468360" y="2349360"/>
            <a:ext cx="8207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Tremblant vs FN24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1" name="Picture 5" descr="Path line to FN24 P26"/>
          <p:cNvPicPr/>
          <p:nvPr/>
        </p:nvPicPr>
        <p:blipFill>
          <a:blip r:embed="rId1"/>
          <a:stretch/>
        </p:blipFill>
        <p:spPr>
          <a:xfrm>
            <a:off x="250920" y="1557360"/>
            <a:ext cx="84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00"/>
                </a:solidFill>
                <a:latin typeface="Arial"/>
              </a:rPr>
              <a:t>Path Line Whiteface vs St-Hilai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4" name="Picture 5" descr="Path line to St-Hilaire P27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Line Whiteface vs FN47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407" name="Picture 6" descr="Path line to FN47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The ne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rt LOS hops are easy to find, longer path need more wor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Once prospective sites are found landmarks are needed to point the dish. Especially on higher bands where no beacons are availabl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s there an easy, intuitive solution 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Enter </a:t>
            </a:r>
            <a:r>
              <a:rPr b="1" lang="fr-CA" sz="3200" spc="-1" strike="noStrike">
                <a:solidFill>
                  <a:srgbClr val="ffff00"/>
                </a:solidFill>
                <a:latin typeface="Verdana"/>
              </a:rPr>
              <a:t>Heywhatsth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5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47 GHz. Granby site, 148 Km. Copied Henry KT1J on Whiteface with a bare mixer. No QSO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47 GHz. Venise-en-Quebec site near the border. No QSO due to pointing error and frequency uncertainty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6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. St-Hilaire site to Whiteface. 59++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4, 47 GHz. Lancaster site to Whiteface 99 Km. 59++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24, 47 GHz. Tremblant site to Whiteface 215 Km. 51 and 339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2017 seas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Survey work FN35 to Whiteface (Trees)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, 47 GHz, FN35. Better site near St-Hilaire (Title picture)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 GHz, Huron belvedere, King Mt sites near Ottawa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47 GHz, FN24 to Whiteface. 59+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0 GHz. FN24 site to Tremblant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144, 222, 1296. FN47 to Whitefac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78 GHz. Site near the border to Champlain and St-Albans. 59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And 201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10 GHz and up. Site on Mt-Royal to Whiteface, St-Alban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More to come !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A great tool to find new sites and spur local activity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Way to engage small groups to work between contests. Hone skills, more point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Help to push limits at millimeter frequencies. List of sites to extend distances as skills improv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And you found the perfect reason to buy that PA/LNA or high end transverter…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Special 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hanks to the group who made all this possible. It was fun! </a:t>
            </a:r>
            <a:r>
              <a:rPr b="0" lang="fr-CA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Mike N1JE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Ray VE3FN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Henry KT1J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Paul W1GHZ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Luc VE3LUP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Glenn VE3XRA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Dean VE3CDD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eywhatsth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uggested by Mike N1JEZ who uses the applic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Heywhatsthat is a website that provides synthetic panoramas from a location (</a:t>
            </a:r>
            <a:r>
              <a:rPr b="0" lang="fr-CA" sz="3200" spc="-1" strike="noStrike" u="sng">
                <a:solidFill>
                  <a:srgbClr val="00ccff"/>
                </a:solidFill>
                <a:uFillTx/>
                <a:latin typeface="Verdana"/>
                <a:hlinkClick r:id="rId1"/>
              </a:rPr>
              <a:t>www.heywhatsthat.com</a:t>
            </a: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Used by sightseers, hikers to identify landmark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It has various tools, usable for Ham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4 main modu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anorama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Visibility cloak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Horiz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ath Profil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nora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Used by most use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For Hams, gives a general view of the landscape. When combined with Path Profiler it gives an aiming point to the other st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Visibility clo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ws the terrain visible (LOS) from a hilltop, or any other sit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Based on Google Map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Potential sites are easily spott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Has been known to work up to 215 km (Whiteface - Mt Tremblant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Horiz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Verdana"/>
              </a:rPr>
              <a:t>Shows the maximum distance visible (LOS) from a hillto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Easy to spot farthest possible sit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Verdana"/>
              </a:rPr>
              <a:t>Those sites may not be accessible by usual mean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ath Profil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To get a view of the path between station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Based on Google Map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If obstructed you can point and click on an obstruction to see where it is located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Verdana"/>
              </a:rPr>
              <a:t>On non-LOS paths one can evaluate the effect of knife edge, or tropo horizon (like Whiteface to FN47 on the St-Laurence Valley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22:18:53Z</dcterms:created>
  <dc:creator>MonPc</dc:creator>
  <dc:description/>
  <dc:language>en-US</dc:language>
  <cp:lastModifiedBy>MonPc</cp:lastModifiedBy>
  <dcterms:modified xsi:type="dcterms:W3CDTF">2018-03-20T20:03:41Z</dcterms:modified>
  <cp:revision>86</cp:revision>
  <dc:subject/>
  <dc:title>Finding sites with HeyWhatsThat</dc:title>
</cp:coreProperties>
</file>