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C48-4C7B-460D-8C22-5A5570CD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60F-3A0C-4456-9138-691C0CD9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412-923D-4811-A1DE-2C1BABF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701-DF1A-4700-A9D3-89F3B95B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08E-BBFA-4411-8340-9856480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FC3-401C-4E89-9741-ED1780D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4EB-C6FE-4249-81A2-B1F7BD5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707-F244-41FC-8C8E-02D574BA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685-F2ED-4BB4-8515-C071AA19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8812-6AAA-4645-93F5-78D6A06A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3709-6E4F-49FB-9272-C230C3EE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DE7-2D6C-4E74-B61D-6ABAD4C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4AD4-134A-46AC-9CA1-B5FE49E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9990-1E6A-4901-82F7-1C57D23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5661-6901-4E2B-97CA-BF987A2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BADF-D528-4059-94A9-B4BB9DAE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A837-5E65-495B-87E5-4FB2BFBB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42E-B4B4-42F3-BB8B-25B06DA4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3E9-F312-403E-BB5A-840A36D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693-4513-4E0F-9EF8-10E9C79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4AE-693E-4F6F-A36E-33C25C96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EEC-AC56-465F-A918-6CC53A9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383-48D5-4236-A1A2-6949014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093-A065-4FF7-A585-429FAA0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D7B-E2B5-4BE5-8589-13252FD6C0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FE8F-7ACE-4F10-AE99-8B40EDB0D181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"/>
              </a:rPr>
              <a:t>PCOM RX Mixer Hacks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22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7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241 GHz transverter outpu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vs DB6NT MKU 47 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0 dB less compared with DB6N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s a source PCOM has similar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air the PCOM with a ZLPLL 14G and you have a basic multiband ri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be used as a bench signal sour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ood for minimum &gt;1 km QSO with simple antenn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n hike your total in contests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t star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eeded a test source at 78 GHz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nd that a PCOM RX mixer have output as is. Bias port not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ork at 78 GHz. Other frequencie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what about using it as a transverter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et’s try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OM RX Mixer M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ports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WR28, SMA for LO and RX IF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3 DC lines. Bias (0 to 10V),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supplies to RX IF amp (+12V and -5V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move RX IF amp to make bi-directionnal por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 tests, source and transvert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sts at 24, 47, 78, 122 and 134 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e bold, try 241 GHz too! Lets see if we have something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est Ben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697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sour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e output up to 134 GHz. 241 don’t pass Manual Signal ID Test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source, best at 47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1471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42920" y="1298520"/>
            <a:ext cx="70581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ome output at 134 GH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2944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works! Confirmed TX and RX at 78 GHz. See output at 24, 47, 122, 134 and even 241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122 GHz and above need output confirmation with on-the-air test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just bias for max outpu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ias setting could change with load presented to WR28 por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s a transvert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ike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milar designs, need a RX pream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utput at 122 GHz is surpris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ok in the Proceedings for all the tra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4T18:39:56Z</dcterms:modified>
  <cp:revision>111</cp:revision>
  <dc:subject/>
  <dc:title>Finding sites with HeyWhatsThat</dc:title>
</cp:coreProperties>
</file>