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833-91F9-4E7B-84DC-30D412EDA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2D8-03EB-40D4-8A08-536039694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BD3-B678-470C-B614-99EC01B3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0DF-0766-4087-BD07-419432A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CD0-3814-4569-AFEB-FC4AE970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51A-3297-43B4-920D-21B2CEA5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9C9-1073-4C98-9B80-5A47BBC5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090-DE4E-4303-B5DF-4E73E3CF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11A-DB21-4756-AF4F-047538F7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587-52DE-411C-8FB8-CE0EB09C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9DD-BCB8-45B6-99C5-22B9D817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DD33-7CF3-4D6F-8F26-3845420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0AB-5238-419D-9984-3721094B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364-DC62-4984-A7EE-C4CC209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1D73-D372-4A09-8983-4EEB95956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343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ed A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40th Eastern VHF / UHF Conferenc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: Fred Stefanik, N1D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:\Tropo Antennas\222_432\1 00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….6 Meters through 432 were up and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started to think about how I may approach the lower 4 microwave 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old 6 bands worth of gear found a new home in FN43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oked at what I had kicking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t about how I could get on with the goal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on eas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the set up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maintenance on the tower (I’m not getting any youn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able Performan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want to be able to work AA1I/R where h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d like to work out to the ~100 mile radius or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3809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s…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portable array I only used a few ti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’ Fiberglass cross b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13 element yagi spec’d at 13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brew DL6WU 14 element yagi - 14.2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1RIL 22 element looper       ~ 17.5 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ve Systems 22 element looper  ~ 17.5 dBd g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the horn antenna and now I have a place for a L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F:\Microwave Station Presentation\0 002.jpg"/>
          <p:cNvPicPr/>
          <p:nvPr/>
        </p:nvPicPr>
        <p:blipFill>
          <a:blip r:embed="rId1"/>
          <a:stretch/>
        </p:blipFill>
        <p:spPr>
          <a:xfrm>
            <a:off x="4502160" y="762120"/>
            <a:ext cx="4641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s = 902/3, 1296, 2304, 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verters and PA’s in sh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NA on Tower for good RX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100’ piece of LDF4-50 Heliax Fee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 Loss = 2.2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Loss = 2.7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Loss = 3.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Loss = 4.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52640" y="3045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multiple LNA’s too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 broadband 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6IW HEMT MMIC LNA from NEW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ed Goran and told him what I was lookin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made an LNA for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ested to the following spec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3  - 24.4dB Gain - 0.31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96 - 22.7dB Gain - 0.30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4 - 17.8dB Gain - 0.48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56 - 14.9dB Gain - 0.56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F:\Microwave Station Presentation\LNA.JPG"/>
          <p:cNvPicPr/>
          <p:nvPr/>
        </p:nvPicPr>
        <p:blipFill>
          <a:blip r:embed="rId1"/>
          <a:stretch/>
        </p:blipFill>
        <p:spPr>
          <a:xfrm>
            <a:off x="0" y="4565520"/>
            <a:ext cx="32004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65760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 flipH="1">
            <a:off x="3961800" y="3505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962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4008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400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6019920" y="35049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38480" y="350532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056600">
            <a:off x="3657240" y="4571280"/>
            <a:ext cx="304920" cy="304920"/>
          </a:xfrm>
          <a:prstGeom prst="triangle">
            <a:avLst>
              <a:gd name="adj" fmla="val 484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44197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 flipH="1"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3200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32004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32004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 flipH="1">
            <a:off x="22860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62485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64771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64771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6248520" y="4038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977760" y="33130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F4-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49164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431160" y="2438280"/>
            <a:ext cx="9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5488920" y="182880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2"/>
          <p:cNvSpPr/>
          <p:nvPr/>
        </p:nvSpPr>
        <p:spPr>
          <a:xfrm rot="10908600">
            <a:off x="69336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3"/>
          <p:cNvSpPr/>
          <p:nvPr/>
        </p:nvSpPr>
        <p:spPr>
          <a:xfrm rot="10908600">
            <a:off x="73908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 rot="10908600">
            <a:off x="78480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5"/>
          <p:cNvSpPr/>
          <p:nvPr/>
        </p:nvSpPr>
        <p:spPr>
          <a:xfrm rot="10908600">
            <a:off x="83052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086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5438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800100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8458200" y="2971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6787800" y="220968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3  1.2    2.3   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Tropo Antennas\Microwave\1 004.jpg"/>
          <p:cNvPicPr/>
          <p:nvPr/>
        </p:nvPicPr>
        <p:blipFill>
          <a:blip r:embed="rId1"/>
          <a:stretch/>
        </p:blipFill>
        <p:spPr>
          <a:xfrm>
            <a:off x="1523880" y="934920"/>
            <a:ext cx="59436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F:\Tropo Antennas\Microwave\1 006.jpg"/>
          <p:cNvPicPr/>
          <p:nvPr/>
        </p:nvPicPr>
        <p:blipFill>
          <a:blip r:embed="rId1"/>
          <a:stretch/>
        </p:blipFill>
        <p:spPr>
          <a:xfrm>
            <a:off x="2286000" y="990720"/>
            <a:ext cx="4767120" cy="5781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400" y="5738760"/>
            <a:ext cx="23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3 - 13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hcraft Com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46483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- 22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v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960" y="2362320"/>
            <a:ext cx="212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- 14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Brew DL6W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0" y="1295280"/>
            <a:ext cx="18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- 22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1RIL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37080"/>
            <a:ext cx="6324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32756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F:\Microwave Station Presentation\DSCF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NA works gre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high P-1dB and OI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dBm P-1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0dBm OI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t won’t overload….bu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bout the Transvert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THEY DO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343400" y="5675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2.600 MHz Cente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dB/ Div     10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dBm Top Referen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F:\Microwave Station Presentation\903 Average.JPG"/>
          <p:cNvPicPr/>
          <p:nvPr/>
        </p:nvPicPr>
        <p:blipFill>
          <a:blip r:embed="rId1"/>
          <a:stretch/>
        </p:blipFill>
        <p:spPr>
          <a:xfrm>
            <a:off x="4343400" y="1517760"/>
            <a:ext cx="4800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t’s right 30 years ago!)(I was 23 years 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first tried 1296 out at my home QTH at FN32q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mW transver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rrowed from WB1FV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element Yag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rrowed from K1F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feet of RG8U Fee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rked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2SZ/1 @ ~ 50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1JR @ ~ 73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crowave bug b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6 Gear of my own n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B LT23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 Element Loop Ya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Feet of 3/4” *OLD* CATV Aluminum Har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Unknown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now work about 6 or 7 st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907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urn on the peak hold function on the spectrum analyzer and let it run a whil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settings as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peaks at -10dB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also see the result of the frequency agile signal that moves from ~902 to ~925 MHz that is -30dB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 on my receiver = -100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ut of band interference is S9 + 90dB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 band interference is        S9 + 70dB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thing the in band hops aroun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picture is 2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s like I need a fil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F:\Microwave Station Presentation\903 Peak.JPG"/>
          <p:cNvPicPr/>
          <p:nvPr/>
        </p:nvPicPr>
        <p:blipFill>
          <a:blip r:embed="rId1"/>
          <a:stretch/>
        </p:blipFill>
        <p:spPr>
          <a:xfrm>
            <a:off x="4648320" y="838080"/>
            <a:ext cx="4114800" cy="30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:\Microwave Station Presentation\903 Zoom.JPG"/>
          <p:cNvPicPr/>
          <p:nvPr/>
        </p:nvPicPr>
        <p:blipFill>
          <a:blip r:embed="rId2"/>
          <a:stretch/>
        </p:blipFill>
        <p:spPr>
          <a:xfrm>
            <a:off x="4648320" y="3762360"/>
            <a:ext cx="4114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’s a picture taken with the 902 / 903 receive filter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more tolerable but still not gr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Picture 10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Picture 2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F:\Microwave Station Presentation\903 Filter.JPG"/>
          <p:cNvPicPr/>
          <p:nvPr/>
        </p:nvPicPr>
        <p:blipFill>
          <a:blip r:embed="rId1"/>
          <a:stretch/>
        </p:blipFill>
        <p:spPr>
          <a:xfrm>
            <a:off x="4724280" y="6858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F:\Microwave Station Presentation\903 Zoom Filter.JPG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F:\Microwave Station Presentation\903 Peak.JPG"/>
          <p:cNvPicPr/>
          <p:nvPr/>
        </p:nvPicPr>
        <p:blipFill>
          <a:blip r:embed="rId1"/>
          <a:stretch/>
        </p:blipFill>
        <p:spPr>
          <a:xfrm>
            <a:off x="228600" y="914400"/>
            <a:ext cx="3276720" cy="281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:\Microwave Station Presentation\903 Filter.JPG"/>
          <p:cNvPicPr/>
          <p:nvPr/>
        </p:nvPicPr>
        <p:blipFill>
          <a:blip r:embed="rId2"/>
          <a:stretch/>
        </p:blipFill>
        <p:spPr>
          <a:xfrm>
            <a:off x="228600" y="3886200"/>
            <a:ext cx="3314880" cy="281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F:\Microwave Station Presentation\903 Zoom.JPG"/>
          <p:cNvPicPr/>
          <p:nvPr/>
        </p:nvPicPr>
        <p:blipFill>
          <a:blip r:embed="rId3"/>
          <a:stretch/>
        </p:blipFill>
        <p:spPr>
          <a:xfrm>
            <a:off x="5638680" y="838080"/>
            <a:ext cx="3276720" cy="277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F:\Microwave Station Presentation\903 Zoom Filter.JPG"/>
          <p:cNvPicPr/>
          <p:nvPr/>
        </p:nvPicPr>
        <p:blipFill>
          <a:blip r:embed="rId4"/>
          <a:stretch/>
        </p:blipFill>
        <p:spPr>
          <a:xfrm>
            <a:off x="5638680" y="3762360"/>
            <a:ext cx="3353040" cy="2863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5053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505320" y="4876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the other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Could use a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ms to hear OK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Could use a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ms to hear OK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Is clean as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pictures are taken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dBm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dB /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MHz /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F:\Microwave Station Presentation\1296.JPG"/>
          <p:cNvPicPr/>
          <p:nvPr/>
        </p:nvPicPr>
        <p:blipFill>
          <a:blip r:embed="rId1"/>
          <a:stretch/>
        </p:blipFill>
        <p:spPr>
          <a:xfrm>
            <a:off x="5334120" y="6858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:\Microwave Station Presentation\2304.JPG"/>
          <p:cNvPicPr/>
          <p:nvPr/>
        </p:nvPicPr>
        <p:blipFill>
          <a:blip r:embed="rId2"/>
          <a:stretch/>
        </p:blipFill>
        <p:spPr>
          <a:xfrm>
            <a:off x="5334120" y="27432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:\Microwave Station Presentation\3456.JPG"/>
          <p:cNvPicPr/>
          <p:nvPr/>
        </p:nvPicPr>
        <p:blipFill>
          <a:blip r:embed="rId3"/>
          <a:stretch/>
        </p:blipFill>
        <p:spPr>
          <a:xfrm>
            <a:off x="5334120" y="4795920"/>
            <a:ext cx="3429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F:\Tropo Antennas\Microwave\1 008.jpg"/>
          <p:cNvPicPr/>
          <p:nvPr/>
        </p:nvPicPr>
        <p:blipFill>
          <a:blip r:embed="rId1"/>
          <a:stretch/>
        </p:blipFill>
        <p:spPr>
          <a:xfrm>
            <a:off x="838080" y="89532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F:\Tropo Antennas\Microwave\1.jpg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wave S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850S -&gt;Down East Microwave 28-144 Trans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902/3-144 Trans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scale MRFE6VP8600H LDMOS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+ Wat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1296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ineon PTF141501 LDMOS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 Watts  (I 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 250 watt amplifier, I just need to hook it up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F Systems 2304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plus MMDS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Wat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MOS amp in the works for ~250 W  (NXP BLF2425M7L250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3456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fornia Microwav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Watts (Toshiba amp in the works for ~60 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F:\Tropo Antennas\Microwave\1 009.jpg"/>
          <p:cNvPicPr/>
          <p:nvPr/>
        </p:nvPicPr>
        <p:blipFill>
          <a:blip r:embed="rId1"/>
          <a:stretch/>
        </p:blipFill>
        <p:spPr>
          <a:xfrm>
            <a:off x="76320" y="1143000"/>
            <a:ext cx="8943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:\Microwave Station Presentation\300-2304-1.JPG"/>
          <p:cNvPicPr/>
          <p:nvPr/>
        </p:nvPicPr>
        <p:blipFill>
          <a:blip r:embed="rId1"/>
          <a:stretch/>
        </p:blipFill>
        <p:spPr>
          <a:xfrm>
            <a:off x="16002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Microwave Station Presentation\300-2304-2.JPG"/>
          <p:cNvPicPr/>
          <p:nvPr/>
        </p:nvPicPr>
        <p:blipFill>
          <a:blip r:embed="rId1"/>
          <a:stretch/>
        </p:blipFill>
        <p:spPr>
          <a:xfrm>
            <a:off x="-976320" y="-138240"/>
            <a:ext cx="1109664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9296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d the LT23S to a weatherproof box up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I had my 10 watts near the 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lso had my receiver front end there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saw a marked increase in overal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icrowave bug bit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next few years I added more ban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ransverters, etc up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watts, 3dB NF,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att, 2dB NF,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att, 2dB NF,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uff worked really good at the anten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Microwave Station Presentation\300-2304-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9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5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98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0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.9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41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47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1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1.3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8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,721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58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.1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4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72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74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457200"/>
            <a:ext cx="4495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2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606 Watts ERP ( - 0.43 dB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.2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7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119 Watts ERP ( - 0.67 dB @ 1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531 Watts ERP ( + 1.55 dB @ 2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5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8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 Watts ERP ( - 14 dB @ 8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861 Watts ERP ( + 0.94dB @ 2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5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6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6 Watts ERP ( - 10.4 dB @ 8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170 Watts ERP ( - 1.68 dB @ 6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9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4 January VHF SS (dead band January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3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QSO’s x 11 Grid Squar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20,30,31,32,34,41,42,43,44, FM’s 19,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RZ FM19jh @ 30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Best DX N3NGE FN20bd @ 215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6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QSO’s x 10 Grid Squa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20,30,31,32,41,42,43,44, FM’s 19,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RZ  FM19jh @ 30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Best DX N3NGE FN20bd @ 215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04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QSO’s x 3 Grid Squa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31,32, 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AF1T FN43cd @ 8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Heard N3NGE FN20bd @ 215 Miles 539 didn’t hear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56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QSO’s x 1 Grid Squ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TEO FN31jh @ 60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importantly I worked AA1I/R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grids on 90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, 41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grids on 129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, 41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Grids on 2304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e had a problem on 23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Grids on 345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e had a problem on 345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Fee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Antenn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lly 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band LNA is the only “electronics” on the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past years…needed separate LNA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bypassed if “something happe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verters and Power Amplifiers are all in the sh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wer SSPA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be come more available and or afford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 (or can / will be) equivalent to the ol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performance can always be realized with larger anten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to rebuild the antennas and systems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riginal LT23S had d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time for a new 1296 system to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Tower Mounted Systems We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- 70 Watts, 0.7dBNF, 39 element 15’ Boom Lo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- 35 Watts, 0.3dBNF, 55 element 15’ Boom Lo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- 40 Watts, 1dBNF, 76 element 12’ Boom Blowto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- 10 Watts, 1dBNF, 112 element 12’ Boom Blowto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eedlines on these systems were ~10’ of FSJ4-50B Superf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lso added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60 - 2 Watts DEMI Transverter, 2’ D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68 - 3 Watts, Kuhne Transverter, DL2AM amplifier, 2’ D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2003 I added a DEMI 8 Watt amp to the 10GHz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uff worked gre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marches o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.9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5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98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5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3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8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721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8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9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1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47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71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1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74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72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4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-152280" y="1143000"/>
            <a:ext cx="92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of this gear looks lik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F:\Microwave Station Presentation\N1DPM 00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now 29 years after my first endeavor on 12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been ~ 16 years since my antenna system was last overha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now 52 not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know I’m young still, but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ecided I wanted a really good system on this tower fo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eters, 2  Meters, 222MHz, and 432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 ask my friend John AA1I/R if he could help me as ground crew to do some tower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day we took down 903, 1296, and 23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wrenching apart 16 year old hardware on these 3 systems I was sho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next time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eek later when he arrived he said “let me go up and give it a sho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OOOHHHHH….A younger guy to help on the tow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took down the 2 meter yagis, 3456, 5760, and 10G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ime the “youngster” was sho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 continue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his first time on the tower he said something lik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got me into this microwave stuff and here I am helping you take apart one of the stations I can reliably work as a rover.  Something seems wrong with t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that had some influenc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bought all his own climbing harness, etc and continued to help with the antenna system rebui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ntinued to play ground cre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:\Tropo Antennas\AA1I 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3:39:39Z</dcterms:created>
  <dc:creator>Fred</dc:creator>
  <dc:description/>
  <dc:language>en-US</dc:language>
  <cp:lastModifiedBy>paul</cp:lastModifiedBy>
  <cp:lastPrinted>2014-03-31T13:29:34Z</cp:lastPrinted>
  <dcterms:modified xsi:type="dcterms:W3CDTF">2014-03-31T13:32:02Z</dcterms:modified>
  <cp:revision>30</cp:revision>
  <dc:subject/>
  <dc:title>N1DPM Microwave System</dc:title>
</cp:coreProperties>
</file>