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BBD-87BE-404B-932F-2CF449C6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5EB-B6FA-4AE8-B0B7-78A25BA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7B0-46A1-4545-81DF-27D005B5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429-6199-4C29-A170-59F0B751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C851-2E6D-483B-90EB-1C3DCF9A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55A6-F717-4746-A264-2E85213A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8E7C-63CF-426D-A1BF-60A3618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0D1A-800F-47DE-9C06-B8470AA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4EDA-C558-4A77-B76B-0744F6FD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F659-DD2B-43AA-ACEC-8F97AC74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208D-607A-433E-90CE-E8F2558B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FF3-EF5A-451D-9702-0F7DBC9C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F3EB-D8D4-44FE-A01E-394002F2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167D-FBD2-46D6-A07F-40DE3EA9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3886-C064-415B-926A-E96D8B7A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C2A5-E635-43BD-9AA2-16128B29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275A-B765-4E90-9799-137941C0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BFD-B89D-49CC-BD61-EE9FE9E5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EFE-1B29-4797-92A9-07009397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F1D-03C9-4207-91B7-6ACEEDA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ED7-3635-4F72-81A1-99BF9A6A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16C-B9E8-4726-8C72-555C527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37D-02E1-4FBA-A030-606DA7D3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9D4-4062-47AE-9D88-70125994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63D8-C284-4A61-B936-95E631A3AD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58BF-675D-4242-8151-A2FE6A8E0C93}" type="slidenum"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eywhatstha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6" descr="IMG_20170926_091132550_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700" spc="-1" strike="noStrike">
                <a:solidFill>
                  <a:srgbClr val="ffff00"/>
                </a:solidFill>
                <a:latin typeface="Arial"/>
              </a:rPr>
              <a:t>Finding sites with Heywhatsthat</a:t>
            </a:r>
            <a:endParaRPr b="0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24112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Rene Barbeau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VE2UG. 2018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w it work</a:t>
            </a: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Enter Heywhatsthat websit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Click on « New Panorama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Enter data or click on map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Get result. Click on « Visibility Cloak » and « Horizon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Zoom and survey map to find potential sites. Click site to see Path Profiler result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weak data in path profiler« Parameters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ccff"/>
                </a:solidFill>
                <a:latin typeface="Verdana"/>
              </a:rPr>
              <a:t>http://www.heywhatsthat.com/techfaq.htm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ntering dat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3" name="Picture 4" descr="Entering data panorama P11"/>
          <p:cNvPicPr/>
          <p:nvPr/>
        </p:nvPicPr>
        <p:blipFill>
          <a:blip r:embed="rId1"/>
          <a:stretch/>
        </p:blipFill>
        <p:spPr>
          <a:xfrm>
            <a:off x="900000" y="1484280"/>
            <a:ext cx="74883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ntering dat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6" name="Picture 4" descr="Entering data panorama P11A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sults -&gt; Panora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9" name="Picture 6" descr="Panorama Whiteface P12"/>
          <p:cNvPicPr/>
          <p:nvPr/>
        </p:nvPicPr>
        <p:blipFill>
          <a:blip r:embed="rId1"/>
          <a:stretch/>
        </p:blipFill>
        <p:spPr>
          <a:xfrm>
            <a:off x="250920" y="1349280"/>
            <a:ext cx="849780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Result -&gt; Visibility cloak + Horiz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2" name="Picture 7" descr="Horizon  and visibility Whiteface P13"/>
          <p:cNvPicPr/>
          <p:nvPr/>
        </p:nvPicPr>
        <p:blipFill>
          <a:blip r:embed="rId1"/>
          <a:stretch/>
        </p:blipFill>
        <p:spPr>
          <a:xfrm>
            <a:off x="250920" y="1628640"/>
            <a:ext cx="85852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Result -&gt; Visibility cloak + horizon to Tremb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5" name="Picture 4" descr="Horizon + visibility Whiteface to Tremblant P14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valuation with Path profi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ntering new site by clicking on ma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dit parameters Menu. 0.14 is visual refraction (see techfaq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8" name="Picture 4" descr="Entering Path Profiler"/>
          <p:cNvPicPr/>
          <p:nvPr/>
        </p:nvPicPr>
        <p:blipFill>
          <a:blip r:embed="rId1"/>
          <a:stretch/>
        </p:blipFill>
        <p:spPr>
          <a:xfrm>
            <a:off x="395280" y="3429000"/>
            <a:ext cx="82821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 with Tremb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1" name="Picture 4" descr="Path Profiler to Tremblant P16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s with Lancas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4" name="Picture 4" descr="Path Profiler to Lancaster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 with St-Hil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7" name="Picture 4" descr="Path Profiler to St-Hilaire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ne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Operating from home is difficult if not impossibl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ortable operation is more flexible technicall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 operation is a good start,  not limited to LOS (Line of Sight) in our experienc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OS is mandatory for higher bands, except for the better stations on 24 GHz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Profiler with FN47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0" name="Picture 4" descr="Path Profiler to FN47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ite Survey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inding a site is one thing. But is it usable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f possible use Google Street View before leaving 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Do a printscreen of the Path Line, for reference in the fiel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Be prepared for the worst (trees). I hate tre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N24, LOS from Whiteface. Humm..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5" name="Picture 4" descr="Trees P21A"/>
          <p:cNvPicPr/>
          <p:nvPr/>
        </p:nvPicPr>
        <p:blipFill>
          <a:blip r:embed="rId1"/>
          <a:stretch/>
        </p:blipFill>
        <p:spPr>
          <a:xfrm>
            <a:off x="539640" y="2637000"/>
            <a:ext cx="3429000" cy="3447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Trees P21B"/>
          <p:cNvPicPr/>
          <p:nvPr/>
        </p:nvPicPr>
        <p:blipFill>
          <a:blip r:embed="rId2"/>
          <a:stretch/>
        </p:blipFill>
        <p:spPr>
          <a:xfrm>
            <a:off x="4500720" y="2637000"/>
            <a:ext cx="41432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N35 top of hill. Where do I setup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9" name="Picture 4" descr="Trees FN35"/>
          <p:cNvPicPr/>
          <p:nvPr/>
        </p:nvPicPr>
        <p:blipFill>
          <a:blip r:embed="rId1"/>
          <a:stretch/>
        </p:blipFill>
        <p:spPr>
          <a:xfrm>
            <a:off x="755640" y="2276640"/>
            <a:ext cx="7416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ven one tree is enough..(FN47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2" name="Picture 4" descr="Tree fn47"/>
          <p:cNvPicPr/>
          <p:nvPr/>
        </p:nvPicPr>
        <p:blipFill>
          <a:blip r:embed="rId1"/>
          <a:stretch/>
        </p:blipFill>
        <p:spPr>
          <a:xfrm>
            <a:off x="1619280" y="2313000"/>
            <a:ext cx="568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Google Street View Ottaw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5" name="Picture 4" descr="Google Street View Ottawa P24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Whiteface vs Ottaw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We can use parking lines for head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8" name="Picture 6" descr="Path Line Ottawa lookout"/>
          <p:cNvPicPr/>
          <p:nvPr/>
        </p:nvPicPr>
        <p:blipFill>
          <a:blip r:embed="rId1"/>
          <a:stretch/>
        </p:blipFill>
        <p:spPr>
          <a:xfrm>
            <a:off x="468360" y="2349360"/>
            <a:ext cx="8207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Tremblant vs FN24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1" name="Picture 5" descr="Path line to FN24 P26"/>
          <p:cNvPicPr/>
          <p:nvPr/>
        </p:nvPicPr>
        <p:blipFill>
          <a:blip r:embed="rId1"/>
          <a:stretch/>
        </p:blipFill>
        <p:spPr>
          <a:xfrm>
            <a:off x="250920" y="1557360"/>
            <a:ext cx="84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Line Whiteface vs St-Hil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4" name="Picture 5" descr="Path line to St-Hilaire P27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Whiteface vs FN47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7" name="Picture 6" descr="Path line to FN47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ne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rt LOS hops are easy to find, longer path need more wor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Once prospective sites are found landmarks are needed to point the dish. Especially on higher bands where no beacons are availabl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s there an easy, intuitive solution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nter </a:t>
            </a:r>
            <a:r>
              <a:rPr b="1" lang="fr-CA" sz="3200" spc="-1" strike="noStrike">
                <a:solidFill>
                  <a:srgbClr val="ffff00"/>
                </a:solidFill>
                <a:latin typeface="Verdana"/>
              </a:rPr>
              <a:t>Heywhatsth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5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47 GHz. Granby site, 148 Km. Copied Henry KT1J on Whiteface with a bare mixer. No QSO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47 GHz. Venise-en-Quebec site near the border. No QSO due to pointing error and frequency uncertainty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6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. St-Hilaire site to Whiteface. 59++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4, 47 GHz. Lancaster site to Whiteface 99 Km. 59++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4, 47 GHz. Tremblant site to Whiteface 215 Km. 51 and 339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7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Survey work FN35 to Whiteface (Trees)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, 47 GHz, FN35. Better site near St-Hilaire (Title picture)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 GHz, Huron belvedere, King Mt sites near Ottawa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47 GHz, FN24 to Whiteface. 59+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 GHz. FN24 site to Tremblant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44, 222, 1296. FN47 to Whitefac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78 GHz. Site near the border to Champlain and St-Albans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nd 201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 and up. Site on Mt-Royal to Whiteface, St-Alban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More to come !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A great tool to find new sites and spur local activity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Way to engage small groups to work between contests. Hone skills, more point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Help to push limits at millimeter frequencies. List of sites to extend distances as skills improv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And you found the perfect reason to buy that PA/LNA or high end transverter…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pecial 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hanks to the group who made all this possible. It was fun! </a:t>
            </a:r>
            <a:r>
              <a:rPr b="0" lang="fr-CA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Mike N1JE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Ray VE3FN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Henry KT1J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Paul W1GH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Luc VE3LUP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Glenn VE3XRA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Dean VE3CDD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eywhatsth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uggested by Mike N1JEZ who uses the applic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Heywhatsthat is a website that provides synthetic panoramas from a location (</a:t>
            </a:r>
            <a:r>
              <a:rPr b="0" lang="fr-CA" sz="3200" spc="-1" strike="noStrike" u="sng">
                <a:solidFill>
                  <a:srgbClr val="00ccff"/>
                </a:solidFill>
                <a:uFillTx/>
                <a:latin typeface="Verdana"/>
                <a:hlinkClick r:id="rId1"/>
              </a:rPr>
              <a:t>www.heywhatsthat.com</a:t>
            </a: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Used by sightseers, hikers to identify landmark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t has various tools, usable for Ham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4 main modu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anorama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Visibility cloa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Horiz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ath Profil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nora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Used by most use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or Hams, gives a general view of the landscape. When combined with Path Profiler it gives an aiming point to the other st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Visibility clo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ws the terrain visible (LOS) from a hilltop, or any other sit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Based on Google Map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otential sites are easily spott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Has been known to work up to 215 km (Whiteface - Mt Tremblant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Horiz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ws the maximum distance visible (LOS) from a hillto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Easy to spot farthest possible sit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Those sites may not be accessible by usual mean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Profi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o get a view of the path between station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Based on Google Map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If obstructed you can point and click on an obstruction to see where it is located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On non-LOS paths one can evaluate the effect of knife edge, or tropo horizon (like Whiteface to FN47 on the St-Laurence Valley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22:18:53Z</dcterms:created>
  <dc:creator>MonPc</dc:creator>
  <dc:description/>
  <dc:language>en-US</dc:language>
  <cp:lastModifiedBy>MonPc</cp:lastModifiedBy>
  <dcterms:modified xsi:type="dcterms:W3CDTF">2018-03-20T20:03:41Z</dcterms:modified>
  <cp:revision>86</cp:revision>
  <dc:subject/>
  <dc:title>Finding sites with HeyWhatsThat</dc:title>
</cp:coreProperties>
</file>