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AC2A-2D5A-43E5-A0B8-030170481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8DDB-B733-44E9-99B5-F4B5F7FEC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0F97-BE00-46B3-9F7B-ED851C602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060D-6534-469B-8D78-E138B9BDA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F2BF5-C6F7-4B85-9259-EB5C5F521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4620C-4299-4D2B-AC16-2717A46EE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C3547-938B-41C7-9BEE-C532D64DD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ED479-E3D1-4AF9-948C-20C037577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CCAED-FB07-4AEF-B121-00279A366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7136C-CEBB-40A3-9FFD-DAD1FB418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90D09-B052-42C9-A462-4E74B8D8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BC6B-A52D-4B1B-94DA-83DB712FF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091C6-1B58-436B-9F6C-0C428EDE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2C0A9-6A89-4ED3-96FF-5C588C34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5C1B3-A133-43C5-8E79-AD702E8CF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D54F5-BDAC-4534-9A8B-937B66300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EADA6-3914-4008-AC85-5F8B76740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107B-9E57-4B4C-9FA5-290C4AAA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2A38-3C57-473B-B8EB-60829DC72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79DC-5145-4ED0-B7E0-49B9BB1DE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E24F-70F2-4113-8559-7D9F5F0C0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0F1F-8FF5-4E0E-B984-3608ADB7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D67B-0384-4792-B33B-EA7D90F9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0B96-DFB5-4EAD-96F7-9FC94871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2323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grpSp>
              <p:nvGrpSpPr>
                <p:cNvPr id="4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23236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23236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23236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8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23236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00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0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23236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00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2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4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5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6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7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8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9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0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4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9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0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1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2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3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4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5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6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7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8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232369"/>
                        </a:solidFill>
                        <a:ln w="9360">
                          <a:solidFill>
                            <a:srgbClr val="23236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49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Oval 52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1" name="Oval 53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2" name="Oval 54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3" name="Oval 55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4" name="Oval 56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5" name="Oval 57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6" name="Oval 58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7" name="Oval 59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8" name="Oval 60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9" name="Oval 61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0" name="Oval 62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1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3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4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5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6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7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8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9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0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1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2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3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4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5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6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7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8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9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0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1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2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3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4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5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6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7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8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9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0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1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2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3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4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5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6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7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2323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sp>
              <p:nvSpPr>
                <p:cNvPr id="100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2323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grpSp>
              <p:nvGrpSpPr>
                <p:cNvPr id="101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23236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4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5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7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9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0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111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113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grpSp>
            <p:nvGrpSpPr>
              <p:cNvPr id="118" name="Group 120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Oval 121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32369"/>
                    </a:gs>
                    <a:gs pos="100000">
                      <a:srgbClr val="4545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sp>
              <p:nvSpPr>
                <p:cNvPr id="120" name="Freeform 122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32369"/>
                    </a:gs>
                    <a:gs pos="100000">
                      <a:srgbClr val="4545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123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32369"/>
                    </a:gs>
                    <a:gs pos="100000">
                      <a:srgbClr val="4545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sp>
              <p:nvSpPr>
                <p:cNvPr id="122" name="Freeform 124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32369"/>
                    </a:gs>
                    <a:gs pos="100000">
                      <a:srgbClr val="4545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sp>
              <p:nvSpPr>
                <p:cNvPr id="123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32369"/>
                    </a:gs>
                    <a:gs pos="100000">
                      <a:srgbClr val="4545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15B00-7E5A-4495-97F3-EEDEDD341D8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Group 3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Group 4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2323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grpSp>
              <p:nvGrpSpPr>
                <p:cNvPr id="169" name="Group 6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23236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1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23236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2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23236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173" name="Group 10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23236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00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75" name="Group 12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23236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00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77" name="Group 14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9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0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1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2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3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4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5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6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7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8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9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0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1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2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3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4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5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6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7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8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9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0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1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2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3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4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5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6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7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8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9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0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1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2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3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232369"/>
                        </a:solidFill>
                        <a:ln w="9360">
                          <a:solidFill>
                            <a:srgbClr val="23236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214" name="Group 51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Oval 52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6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7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8" name="Oval 55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9" name="Oval 56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0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1" name="Oval 58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2" name="Oval 59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3" name="Oval 60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4" name="Oval 61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5" name="Oval 62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6" name="Oval 63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8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9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0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1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2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3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4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5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6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7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8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9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0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1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2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3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4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5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6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7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8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9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0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1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2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3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4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5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6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7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8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9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0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1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2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2323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sp>
              <p:nvSpPr>
                <p:cNvPr id="265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2323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8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23236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9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0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1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2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3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4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5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276" name="Group 113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278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279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280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281" name="Rectangle 118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282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grpSp>
            <p:nvGrpSpPr>
              <p:cNvPr id="283" name="Group 120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Oval 121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32369"/>
                    </a:gs>
                    <a:gs pos="100000">
                      <a:srgbClr val="4545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sp>
              <p:nvSpPr>
                <p:cNvPr id="285" name="Freeform 122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32369"/>
                    </a:gs>
                    <a:gs pos="100000">
                      <a:srgbClr val="4545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sp>
              <p:nvSpPr>
                <p:cNvPr id="286" name="Freeform 123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32369"/>
                    </a:gs>
                    <a:gs pos="100000">
                      <a:srgbClr val="4545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sp>
              <p:nvSpPr>
                <p:cNvPr id="287" name="Freeform 124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32369"/>
                    </a:gs>
                    <a:gs pos="100000">
                      <a:srgbClr val="4545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sp>
              <p:nvSpPr>
                <p:cNvPr id="288" name="Freeform 125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32369"/>
                    </a:gs>
                    <a:gs pos="100000">
                      <a:srgbClr val="4545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6CB88-9353-40D3-BA32-58AF395DA31C}" type="slidenum">
              <a:rPr b="0" lang="fr-F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ffff00"/>
                </a:solidFill>
                <a:latin typeface="Arial"/>
              </a:rPr>
              <a:t>PCOM RX Mixer Hacks</a:t>
            </a:r>
            <a:endParaRPr b="0" lang="en-US" sz="47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324000" y="5805000"/>
            <a:ext cx="2411280" cy="7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00"/>
                </a:solidFill>
                <a:latin typeface="Verdana"/>
              </a:rPr>
              <a:t>Rene Barbeau </a:t>
            </a:r>
            <a:endParaRPr b="0" lang="en-US" sz="2400" spc="-1" strike="noStrike">
              <a:solidFill>
                <a:srgbClr val="ffff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00"/>
                </a:solidFill>
                <a:latin typeface="Verdana"/>
              </a:rPr>
              <a:t>VE2UG. 2018</a:t>
            </a:r>
            <a:endParaRPr b="0" lang="en-US" sz="24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122 GHz transverter outpu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12764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00"/>
                </a:solidFill>
                <a:latin typeface="Arial"/>
              </a:rPr>
              <a:t>241 GHz transverter outpu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69636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COM vs DB6NT MKU 47 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20 dB less compared with DB6NT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s a source PCOM has similar output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Pair the PCOM with a ZLPLL 14G and you have a basic multiband rig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Can be used as a bench signal source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lso good for minimum &gt;1 km QSO with simple antenna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Can hike your total in contests!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ow it started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Needed a test source at 78 GHz!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Found that a PCOM RX mixer have output as is. Bias port not used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ork at 78 GHz. Other frequencies?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what about using it as a transverter?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Let’s try!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COM RX Mixer Mod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3 ports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, WR28, SMA for LO and RX IF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3 DC lines. Bias (0 to 10V),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 supplies to RX IF amp (+12V and -5V)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Remove RX IF amp to make bi-directionnal port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2 tests, source and transverter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Tests at 24, 47, 78, 122 and 134 GHz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Be bold, try 241 GHz too! Lets see if we have something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Test Bench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66978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s a sourc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ee output up to 134 GHz. 241 don’t pass Manual Signal ID Test.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djust bias for max output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Bias setting could change with load presented to WR28 port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ook in the Proceedings for all the traces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As a source, best at 47 GHz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14716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1042920" y="1298520"/>
            <a:ext cx="7058160" cy="529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Some output at 134 GHz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712944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s a transverter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It works! Confirmed TX and RX at 78 GHz. See output at 24, 47, 122, 134 and even 241 GHz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122 GHz and above need output confirmation with on-the-air tests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djust bias for max output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Bias setting could change with load presented to WR28 port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As a transverter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Like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imilar designs, need a RX preamp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Output at 122 GHz is surprising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ook in the Proceedings for all the traces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5T22:18:53Z</dcterms:created>
  <dc:creator>MonPc</dc:creator>
  <dc:description/>
  <dc:language>en-US</dc:language>
  <cp:lastModifiedBy>MonPc</cp:lastModifiedBy>
  <dcterms:modified xsi:type="dcterms:W3CDTF">2018-03-24T18:39:56Z</dcterms:modified>
  <cp:revision>111</cp:revision>
  <dc:subject/>
  <dc:title>Finding sites with HeyWhatsThat</dc:title>
</cp:coreProperties>
</file>